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7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2273-38FE-4BBD-B925-A25BB2B8AE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DEE5-FB22-4D57-892E-D4C96079CC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8110-7CC7-4260-9128-BBD63599605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ED25-651D-4D26-ABA5-3A2953AE974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05C9-A668-4635-89A4-C586A9BFAD7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2643-7552-41FD-9521-647222026BF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43F0-32A3-46B6-A4A9-D93D30E0303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62CA-CB19-44DE-84FE-EDB92A61211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C4DA-661B-46A8-86ED-4721564430C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9916-6219-4C9E-8A34-B4CAF40AEAA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E2F0-6409-4409-8766-1E7FEE25B6C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BC02-5648-46EB-8085-35151CF4125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074F-CEAB-42AD-8F0D-0565E1FE89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600D-5AB3-4A76-8F61-3205B30B5D2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E6ED-4498-43A4-979A-C5F6E8ECE01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535A-FABC-4B09-90FD-341C8A95B7E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CA15-84C8-49B9-B20D-9F4A19A5A41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F6D3-75FE-40AC-A7CB-B4C7DD30C04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BD0E-B9E0-4DF7-86E6-8E393C31113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A720-B024-4791-818A-AB22069D1E0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CDAA-54F3-4C3A-9E52-C4DA845A596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学者通用符号指令代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操作系统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n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DE0F-AC52-49CC-9365-716A2CE17D0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F61C-8E5A-4E2B-B2ED-9358F27F5EB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E9E4-B254-438E-A5E5-B087E733222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C42F-2A72-451E-A227-20EAF5EC048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8D86-468C-4518-87EF-EDDAB0C4ECF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579B-1113-4DC4-8DFC-0AF7D26ED82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5B6E-10BF-4822-9D07-6ED72762EFF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0F7E-0079-49E1-B9AD-DBDC937E5CE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9BE9-99C2-4EFE-99F5-0D60E9661BF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C5AB-690E-4666-A7CD-8F2D3444A30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3177-9C79-45A0-B1D7-736490468D4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1D5E-115B-4CFE-A5A0-6BB13F78108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B155-46EF-4ABE-8449-744F56D8FF0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Title = 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水下俱乐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WindowWidth = 6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WindowHeight = 8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BackgroundColor = ConsoleColor.Whi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ForegroundColor = ConsoleColor.Blac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Clea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WriteLine(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输入一个字符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i = Console.Read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 c = Convert.ToChar(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WriteLine(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您输入的字符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}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其码制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1}", c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ReadKey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AB13-2397-491C-8FC7-DEC060FA03F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AB97-6B30-432D-BF45-EEBAEFA4DC1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假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。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为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AAF6-D777-4252-90DC-287935E0A70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=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b=‘abc’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能力，逻辑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 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E563-F090-40EE-A871-09F3740FADF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4CC3-571E-4A3A-A11C-D2808BE0E26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7144-EFDD-4372-A90F-683FE3DDA70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64F7-20F6-490E-9745-32A25C22401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8005-0BD9-48A3-A1E0-534579B4595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C7A4-DD44-4AB2-86BE-9AE42367464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 c =‘C’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dd=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6430-A4A4-492E-9390-94DE04C0E79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A529-0A94-4C0D-B7DE-BF9707BED0A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58AF-7DE7-4E54-B6B7-C19ADFCA187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BF85-F928-4FE5-BD3D-4666E30DBD0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10BF-A5DF-4A38-856B-8DF2933E69D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AE66-AD13-4386-B7F2-91FBD5E59CF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CD1D-8AC7-4F94-A3B1-638D2C91FC9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C023-9D5B-420D-B125-26A7644ABD0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6984-E447-4345-817D-0EF3D444F85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E31B-38A2-4263-AFE1-34152DA2831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1239-C407-4490-BB55-E4FADAF44A7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D36F-7E56-42DF-AB03-1BAD37FFBF2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&gt;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0/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6C9C-7D29-4411-B6CC-940B1D3D625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C957-19CE-4539-9780-57493D8AA72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1BE6-6A82-4B39-94FD-3828D4AB33F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983C-C6CF-457B-8FD6-9F8D1F05738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93E0-9FC8-4912-A82D-642B30D07A8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B709-BD9D-4705-A434-E2DAEE08154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4759-AF19-4C19-B91F-2D6DB4E8077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0109-664B-4259-89E0-B00A66CD174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7A51-4FAE-443A-962C-7AAEE9C08C8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9EE9-6CE4-493F-9D70-0B18F61A26F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项对话框；解决方案管理器；类视图；“属性”窗口；工具箱；智能感知；使用帮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1640" y="391464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868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408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652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3164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408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652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179280"/>
            <a:ext cx="91440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868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1640" y="391464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868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408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652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164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408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652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179280"/>
            <a:ext cx="91440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868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87280" y="833400"/>
            <a:ext cx="431820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4826160" y="6477120"/>
            <a:ext cx="431784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132228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3" marL="173052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4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5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6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7" descr="2-3"/>
          <p:cNvPicPr/>
          <p:nvPr/>
        </p:nvPicPr>
        <p:blipFill>
          <a:blip r:embed="rId3"/>
          <a:stretch/>
        </p:blipFill>
        <p:spPr>
          <a:xfrm>
            <a:off x="5391000" y="3808440"/>
            <a:ext cx="3753000" cy="3049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21" descr="图片5"/>
          <p:cNvPicPr/>
          <p:nvPr/>
        </p:nvPicPr>
        <p:blipFill>
          <a:blip r:embed="rId4"/>
          <a:stretch/>
        </p:blipFill>
        <p:spPr>
          <a:xfrm>
            <a:off x="838836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2" descr="图片2"/>
          <p:cNvPicPr/>
          <p:nvPr/>
        </p:nvPicPr>
        <p:blipFill>
          <a:blip r:embed="rId5"/>
          <a:stretch/>
        </p:blipFill>
        <p:spPr>
          <a:xfrm>
            <a:off x="613404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图片1"/>
          <p:cNvPicPr/>
          <p:nvPr/>
        </p:nvPicPr>
        <p:blipFill>
          <a:blip r:embed="rId6"/>
          <a:stretch/>
        </p:blipFill>
        <p:spPr>
          <a:xfrm>
            <a:off x="539100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4" descr="图片3"/>
          <p:cNvPicPr/>
          <p:nvPr/>
        </p:nvPicPr>
        <p:blipFill>
          <a:blip r:embed="rId7"/>
          <a:stretch/>
        </p:blipFill>
        <p:spPr>
          <a:xfrm>
            <a:off x="688968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5" descr="图片4"/>
          <p:cNvPicPr/>
          <p:nvPr/>
        </p:nvPicPr>
        <p:blipFill>
          <a:blip r:embed="rId8"/>
          <a:stretch/>
        </p:blipFill>
        <p:spPr>
          <a:xfrm>
            <a:off x="7645320" y="179280"/>
            <a:ext cx="755640" cy="506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132228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3" marL="173052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4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5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6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msdn.microsoft.com/zh-cn/library/system.console.backgroundcolor%28v=VS.80%29.aspx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msdn.microsoft.com/zh-cn/library/system.console.bufferheight%28v=VS.80%29.aspx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msdn.microsoft.com/zh-cn/library/system.console.bufferwidth%28v=VS.80%29.aspx" TargetMode="External"/><Relationship Id="rId8" Type="http://schemas.openxmlformats.org/officeDocument/2006/relationships/image" Target="../media/image2.png"/><Relationship Id="rId9" Type="http://schemas.openxmlformats.org/officeDocument/2006/relationships/hyperlink" Target="http://msdn.microsoft.com/zh-cn/library/system.console.capslock%28v=VS.80%29.aspx" TargetMode="External"/><Relationship Id="rId10" Type="http://schemas.openxmlformats.org/officeDocument/2006/relationships/image" Target="../media/image2.png"/><Relationship Id="rId11" Type="http://schemas.openxmlformats.org/officeDocument/2006/relationships/hyperlink" Target="http://msdn.microsoft.com/zh-cn/library/system.console.cursorleft%28v=VS.80%29.aspx" TargetMode="External"/><Relationship Id="rId12" Type="http://schemas.openxmlformats.org/officeDocument/2006/relationships/image" Target="../media/image2.png"/><Relationship Id="rId13" Type="http://schemas.openxmlformats.org/officeDocument/2006/relationships/hyperlink" Target="http://msdn.microsoft.com/zh-cn/library/system.console.cursorsize%28v=VS.80%29.aspx" TargetMode="External"/><Relationship Id="rId14" Type="http://schemas.openxmlformats.org/officeDocument/2006/relationships/image" Target="../media/image2.png"/><Relationship Id="rId15" Type="http://schemas.openxmlformats.org/officeDocument/2006/relationships/hyperlink" Target="http://msdn.microsoft.com/zh-cn/library/system.console.cursortop%28v=VS.80%29.aspx" TargetMode="External"/><Relationship Id="rId16" Type="http://schemas.openxmlformats.org/officeDocument/2006/relationships/image" Target="../media/image2.png"/><Relationship Id="rId17" Type="http://schemas.openxmlformats.org/officeDocument/2006/relationships/hyperlink" Target="http://msdn.microsoft.com/zh-cn/library/system.console.cursorvisible%28v=VS.80%29.aspx" TargetMode="External"/><Relationship Id="rId18" Type="http://schemas.openxmlformats.org/officeDocument/2006/relationships/image" Target="../media/image2.png"/><Relationship Id="rId19" Type="http://schemas.openxmlformats.org/officeDocument/2006/relationships/hyperlink" Target="http://msdn.microsoft.com/zh-cn/library/system.console.error%28v=VS.80%29.aspx" TargetMode="External"/><Relationship Id="rId20" Type="http://schemas.openxmlformats.org/officeDocument/2006/relationships/image" Target="../media/image2.png"/><Relationship Id="rId21" Type="http://schemas.openxmlformats.org/officeDocument/2006/relationships/hyperlink" Target="http://msdn.microsoft.com/zh-cn/library/system.console.foregroundcolor%28v=VS.80%29.aspx" TargetMode="External"/><Relationship Id="rId22" Type="http://schemas.openxmlformats.org/officeDocument/2006/relationships/image" Target="../media/image2.png"/><Relationship Id="rId23" Type="http://schemas.openxmlformats.org/officeDocument/2006/relationships/hyperlink" Target="http://msdn.microsoft.com/zh-cn/library/system.console.in%28v=VS.80%29.aspx" TargetMode="External"/><Relationship Id="rId24" Type="http://schemas.openxmlformats.org/officeDocument/2006/relationships/image" Target="../media/image2.png"/><Relationship Id="rId25" Type="http://schemas.openxmlformats.org/officeDocument/2006/relationships/hyperlink" Target="http://msdn.microsoft.com/zh-cn/library/system.console.inputencoding%28v=VS.80%29.aspx" TargetMode="External"/><Relationship Id="rId26" Type="http://schemas.openxmlformats.org/officeDocument/2006/relationships/image" Target="../media/image2.png"/><Relationship Id="rId27" Type="http://schemas.openxmlformats.org/officeDocument/2006/relationships/hyperlink" Target="http://msdn.microsoft.com/zh-cn/library/system.console.keyavailable%28v=VS.80%29.aspx" TargetMode="External"/><Relationship Id="rId28" Type="http://schemas.openxmlformats.org/officeDocument/2006/relationships/image" Target="../media/image2.png"/><Relationship Id="rId29" Type="http://schemas.openxmlformats.org/officeDocument/2006/relationships/hyperlink" Target="http://msdn.microsoft.com/zh-cn/library/system.console.largestwindowheight%28v=VS.80%29.aspx" TargetMode="External"/><Relationship Id="rId30" Type="http://schemas.openxmlformats.org/officeDocument/2006/relationships/image" Target="../media/image2.png"/><Relationship Id="rId31" Type="http://schemas.openxmlformats.org/officeDocument/2006/relationships/hyperlink" Target="http://msdn.microsoft.com/zh-cn/library/system.console.largestwindowwidth%28v=VS.80%29.aspx" TargetMode="External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slideLayout" Target="../slideLayouts/slideLayout3.xml"/><Relationship Id="rId4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01560"/>
            <a:ext cx="883944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3984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133984"/>
                </a:solidFill>
                <a:latin typeface="Arial"/>
              </a:rPr>
              <a:t>语言，</a:t>
            </a:r>
            <a:r>
              <a:rPr b="1" lang="zh-CN" sz="3600" spc="-1" strike="noStrike">
                <a:solidFill>
                  <a:srgbClr val="133984"/>
                </a:solidFill>
                <a:latin typeface="Arial"/>
              </a:rPr>
              <a:t>C#</a:t>
            </a:r>
            <a:r>
              <a:rPr b="1" lang="zh-CN" sz="3600" spc="-1" strike="noStrike">
                <a:solidFill>
                  <a:srgbClr val="133984"/>
                </a:solidFill>
                <a:latin typeface="Arial"/>
              </a:rPr>
              <a:t>入门</a:t>
            </a:r>
            <a:endParaRPr b="1" lang="en-US" sz="36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4373280"/>
            <a:ext cx="701064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                     </a:t>
            </a: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汇报人：</a:t>
            </a:r>
            <a:r>
              <a:rPr b="0" lang="en-US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Hyperpotato </a:t>
            </a: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范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    </a:t>
            </a:r>
            <a:r>
              <a:rPr b="0" lang="en-US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fandixia0703@sjtu.edu.cn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pic>
        <p:nvPicPr>
          <p:cNvPr id="93" name="图片 3" descr="LOGO副本.jpg"/>
          <p:cNvPicPr/>
          <p:nvPr/>
        </p:nvPicPr>
        <p:blipFill>
          <a:blip r:embed="rId2"/>
          <a:stretch/>
        </p:blipFill>
        <p:spPr>
          <a:xfrm>
            <a:off x="-115920" y="4761000"/>
            <a:ext cx="26766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14000" y="1375920"/>
            <a:ext cx="63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树视图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使用粗体字显示的项目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使用粗体字显示的解决方案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命令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选择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多重选择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工具栏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解决方案资源管理器（续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  <a:ea typeface="宋体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解决方案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sln,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下有多个项目或网站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项目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项目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:.csproj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类文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源代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他任何类型的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VB.NET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项目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:.vbproj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源代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v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他任何类型的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视图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121840" y="143100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类视图：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clip_image002"/>
          <p:cNvPicPr/>
          <p:nvPr/>
        </p:nvPicPr>
        <p:blipFill>
          <a:blip r:embed="rId2"/>
          <a:stretch/>
        </p:blipFill>
        <p:spPr>
          <a:xfrm>
            <a:off x="3254400" y="2011320"/>
            <a:ext cx="20858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14000" y="1375920"/>
            <a:ext cx="63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通过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类视图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添加新项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视图 （续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pic>
        <p:nvPicPr>
          <p:cNvPr id="121" name="Picture 7" descr="clip_image002"/>
          <p:cNvPicPr/>
          <p:nvPr/>
        </p:nvPicPr>
        <p:blipFill>
          <a:blip r:embed="rId3"/>
          <a:stretch/>
        </p:blipFill>
        <p:spPr>
          <a:xfrm>
            <a:off x="1500120" y="2084400"/>
            <a:ext cx="583740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04840" y="1292040"/>
            <a:ext cx="67500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在“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类视图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”中管理项目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-3812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从“类视图”中获得通常可用于“解决方案资源管理器”中符号的所有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3812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类视图可以时方便快捷地查找某个类，某个功能模块的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视图 （续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属性”窗口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2300760" y="139284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性”窗口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clip_image002"/>
          <p:cNvPicPr/>
          <p:nvPr/>
        </p:nvPicPr>
        <p:blipFill>
          <a:blip r:embed="rId2"/>
          <a:stretch/>
        </p:blipFill>
        <p:spPr>
          <a:xfrm>
            <a:off x="1704960" y="1973160"/>
            <a:ext cx="2124000" cy="4105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clip_image002"/>
          <p:cNvPicPr/>
          <p:nvPr/>
        </p:nvPicPr>
        <p:blipFill>
          <a:blip r:embed="rId3"/>
          <a:stretch/>
        </p:blipFill>
        <p:spPr>
          <a:xfrm>
            <a:off x="4408560" y="1973160"/>
            <a:ext cx="2124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14000" y="2161800"/>
            <a:ext cx="637236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对象名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工具栏</a:t>
            </a:r>
            <a:r>
              <a:rPr b="0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属性集”窗格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说明”窗格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属性”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窗口（续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182600" y="1405800"/>
            <a:ext cx="67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属性”窗口从上至下总共分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个部分：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工具箱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409920" y="139284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工具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clip_image002"/>
          <p:cNvPicPr/>
          <p:nvPr/>
        </p:nvPicPr>
        <p:blipFill>
          <a:blip r:embed="rId2"/>
          <a:stretch/>
        </p:blipFill>
        <p:spPr>
          <a:xfrm>
            <a:off x="3025800" y="1973160"/>
            <a:ext cx="23526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工具箱 （续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7312680" y="258840"/>
            <a:ext cx="6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工具箱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116000" y="1805040"/>
            <a:ext cx="6719760" cy="143172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工具箱”是一个浮动的树控件，它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indows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资源管理器的工作方式非常相似，但没有网格或连接线。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1116000" y="4043520"/>
            <a:ext cx="6719760" cy="143172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工具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显示可以添加到项目中的项的图标。每次返回编辑器或设计器时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工具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都会自动滚动到最近选择过的选项卡和项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智能感知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7226640" y="374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智能感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116000" y="1805040"/>
            <a:ext cx="6477120" cy="385128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代码编写过程中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供了智能感知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elliSens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功能，它是由集成开发环境提供的一种即时自动提示功能。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机器语言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汇编语言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高级语言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使用帮助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170840" y="3747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使用帮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1192320" y="2050920"/>
            <a:ext cx="6067440" cy="13017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在安装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Visual Studio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时随之安装的本地帮助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（这个帮助就是我们在安装时所选择的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MSDN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192320" y="1447920"/>
            <a:ext cx="60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帮助信息有两个基本来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1192320" y="3641760"/>
            <a:ext cx="6067440" cy="20145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联机帮助。联机帮助是基于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Internet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的，如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MSDN Online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MSDN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新闻组及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.NET Code Wise Community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开发人员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Web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站点集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www.msd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tIns="54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33984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253880"/>
            <a:ext cx="739116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80000"/>
              </a:lnSpc>
              <a:spcBef>
                <a:spcPts val="649"/>
              </a:spcBef>
              <a:buSzPct val="1328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3984"/>
                </a:solidFill>
                <a:latin typeface="Arial"/>
              </a:rPr>
              <a:t>C</a:t>
            </a:r>
            <a:r>
              <a:rPr b="0" lang="zh-CN" sz="2600" spc="-1" strike="noStrike">
                <a:solidFill>
                  <a:srgbClr val="133984"/>
                </a:solidFill>
                <a:latin typeface="Arial"/>
              </a:rPr>
              <a:t>语言认识</a:t>
            </a: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649"/>
              </a:spcBef>
              <a:buSzPct val="13288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33984"/>
                </a:solidFill>
                <a:latin typeface="Arial"/>
              </a:rPr>
              <a:t>基于过程：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</a:rPr>
              <a:t>基本语法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</a:rPr>
              <a:t>——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</a:rPr>
              <a:t>变量，数据表达式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</a:rPr>
              <a:t>——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</a:rPr>
              <a:t>分支与循环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</a:rPr>
              <a:t>——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</a:rPr>
              <a:t>单片机编程</a:t>
            </a:r>
            <a:r>
              <a:rPr b="0" lang="zh-CN" sz="2600" spc="-1" strike="noStrike">
                <a:solidFill>
                  <a:srgbClr val="133984"/>
                </a:solidFill>
                <a:latin typeface="Arial"/>
              </a:rPr>
              <a:t>。。。。。。</a:t>
            </a: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649"/>
              </a:spcBef>
              <a:buSzPct val="13288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33984"/>
                </a:solidFill>
                <a:latin typeface="Arial"/>
              </a:rPr>
              <a:t>面向对象：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</a:rPr>
              <a:t>面向对象基本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</a:rPr>
              <a:t>——</a:t>
            </a:r>
            <a:r>
              <a:rPr b="0" lang="zh-CN" sz="2600" spc="-1" strike="noStrike">
                <a:solidFill>
                  <a:srgbClr val="133984"/>
                </a:solidFill>
                <a:latin typeface="Arial"/>
              </a:rPr>
              <a:t>面向对象高级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</a:rPr>
              <a:t>——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</a:rPr>
              <a:t>Winform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</a:rPr>
              <a:t>编程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</a:rPr>
              <a:t>——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</a:rPr>
              <a:t>GDI+——SQL——ADO——</a:t>
            </a:r>
            <a:r>
              <a:rPr b="0" lang="zh-CN" sz="2600" spc="-1" strike="noStrike">
                <a:solidFill>
                  <a:srgbClr val="133984"/>
                </a:solidFill>
                <a:latin typeface="Arial"/>
              </a:rPr>
              <a:t>。。。。。。</a:t>
            </a: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44520"/>
            <a:ext cx="6119640" cy="4572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zh-CN" sz="3000" spc="-1" strike="noStrike">
                <a:solidFill>
                  <a:srgbClr val="133984"/>
                </a:solidFill>
                <a:latin typeface="Arial"/>
                <a:ea typeface="宋体"/>
              </a:rPr>
              <a:t>目标</a:t>
            </a:r>
            <a:br>
              <a:rPr sz="3000"/>
            </a:br>
            <a:endParaRPr b="1" lang="en-US" sz="30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923760" y="1582560"/>
            <a:ext cx="6685200" cy="4457880"/>
          </a:xfrm>
          <a:prstGeom prst="roundRect">
            <a:avLst>
              <a:gd name="adj" fmla="val 4167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章学习目标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1131840" y="258444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了解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#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特点和优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1131840" y="398448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熟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集成开发环境的使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306360"/>
            <a:ext cx="3470400" cy="49536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C#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923760" y="1582560"/>
            <a:ext cx="6685200" cy="4457880"/>
          </a:xfrm>
          <a:prstGeom prst="roundRect">
            <a:avLst>
              <a:gd name="adj" fmla="val 4167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#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个特点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1131840" y="221148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简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1131840" y="308916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面向对象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1131840" y="396720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紧密结合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1131840" y="484488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基于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.NET Framework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314000" y="1747440"/>
            <a:ext cx="6372360" cy="37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Visual Studio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集成开发环境简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可视化开发的初步认识</a:t>
            </a:r>
            <a:r>
              <a:rPr b="0" lang="en-US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小结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实验：绘制一个计算器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习题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725976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第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章 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与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Visual Studio</a:t>
            </a:r>
            <a:endParaRPr b="1" lang="en-US" sz="26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8910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可视化开发的初步认识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14360" y="1747440"/>
            <a:ext cx="5492880" cy="28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编程步骤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创建用户界面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设置属性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运行</a:t>
            </a: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Windows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应用程序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窗体和控件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代码试图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程序分析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118200" y="4507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可视化开发的初步认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1000080" y="18583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如何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来进行一些简单的开发 ，比如下面的界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clip_image002"/>
          <p:cNvPicPr/>
          <p:nvPr/>
        </p:nvPicPr>
        <p:blipFill>
          <a:blip r:embed="rId2"/>
          <a:stretch/>
        </p:blipFill>
        <p:spPr>
          <a:xfrm>
            <a:off x="1790640" y="2857680"/>
            <a:ext cx="5129280" cy="24969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539640" y="230040"/>
            <a:ext cx="4954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可视化开发的初步认识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118200" y="4507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可视化开发的初步认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440" y="247320"/>
            <a:ext cx="8788320" cy="56052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编程步骤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0040" y="1623960"/>
            <a:ext cx="7473960" cy="47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宋体"/>
                <a:ea typeface="宋体"/>
              </a:rPr>
              <a:t>创建“欢迎”应用程序的</a:t>
            </a:r>
            <a:r>
              <a:rPr b="0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133984"/>
                </a:solidFill>
                <a:latin typeface="宋体"/>
                <a:ea typeface="宋体"/>
              </a:rPr>
              <a:t>个基本步骤： 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853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1"/>
          <p:cNvSpPr/>
          <p:nvPr/>
        </p:nvSpPr>
        <p:spPr>
          <a:xfrm>
            <a:off x="4476600" y="395280"/>
            <a:ext cx="3589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编程步骤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8"/>
          <p:cNvSpPr/>
          <p:nvPr/>
        </p:nvSpPr>
        <p:spPr>
          <a:xfrm>
            <a:off x="1066680" y="2395440"/>
            <a:ext cx="647712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步骤一：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创建用户界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9"/>
          <p:cNvSpPr/>
          <p:nvPr/>
        </p:nvSpPr>
        <p:spPr>
          <a:xfrm>
            <a:off x="1066680" y="3533760"/>
            <a:ext cx="647712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步骤二：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设置属性。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066680" y="4802040"/>
            <a:ext cx="647712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步骤三：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编译、运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200" y="247320"/>
            <a:ext cx="4772160" cy="56052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创建用户界面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476600" y="395280"/>
            <a:ext cx="3589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创建用户界面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1238400" y="2035080"/>
            <a:ext cx="521496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Clr>
                <a:srgbClr val="000000"/>
              </a:buClr>
              <a:buSzPct val="8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创建新项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1238400" y="3583080"/>
            <a:ext cx="521496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Clr>
                <a:srgbClr val="000000"/>
              </a:buClr>
              <a:buSzPct val="8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创建界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470376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创建新项目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15880" y="1541520"/>
          <a:ext cx="7930800" cy="4085640"/>
        </p:xfrm>
        <a:graphic>
          <a:graphicData uri="http://schemas.openxmlformats.org/drawingml/2006/table">
            <a:tbl>
              <a:tblPr/>
              <a:tblGrid>
                <a:gridCol w="921960"/>
                <a:gridCol w="7008840"/>
              </a:tblGrid>
              <a:tr h="5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步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b3c8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操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b3c8df"/>
                    </a:solidFill>
                  </a:tcPr>
                </a:tc>
              </a:tr>
              <a:tr h="88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启动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Visual Studio 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。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在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Visual Studio</a:t>
                      </a:r>
                      <a:r>
                        <a:rPr b="0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文件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菜单下，单击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新建”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→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项目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命令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5f5f5f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在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项目类型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选项组中，选择“ 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Visual  C# 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在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名称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文本框中，键入“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Welcome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单击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确定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按钮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9" name="AutoShape 25"/>
          <p:cNvSpPr/>
          <p:nvPr/>
        </p:nvSpPr>
        <p:spPr>
          <a:xfrm>
            <a:off x="1000080" y="2286000"/>
            <a:ext cx="392040" cy="457200"/>
          </a:xfrm>
          <a:custGeom>
            <a:avLst/>
            <a:gdLst>
              <a:gd name="textAreaLeft" fmla="*/ 0 w 392040"/>
              <a:gd name="textAreaRight" fmla="*/ 392400 w 392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87">
                <a:moveTo>
                  <a:pt x="0" y="0"/>
                </a:moveTo>
                <a:arcTo wR="0" hR="0" stAng="16200000" swAng="-5400000"/>
                <a:lnTo>
                  <a:pt x="0" y="25187"/>
                </a:lnTo>
                <a:arcTo wR="0" hR="0" stAng="10800000" swAng="-5400000"/>
                <a:lnTo>
                  <a:pt x="21600" y="251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6"/>
          <p:cNvSpPr/>
          <p:nvPr/>
        </p:nvSpPr>
        <p:spPr>
          <a:xfrm>
            <a:off x="1000080" y="3962520"/>
            <a:ext cx="392040" cy="457200"/>
          </a:xfrm>
          <a:custGeom>
            <a:avLst/>
            <a:gdLst>
              <a:gd name="textAreaLeft" fmla="*/ 0 w 392040"/>
              <a:gd name="textAreaRight" fmla="*/ 392400 w 392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87">
                <a:moveTo>
                  <a:pt x="0" y="0"/>
                </a:moveTo>
                <a:arcTo wR="0" hR="0" stAng="16200000" swAng="-5400000"/>
                <a:lnTo>
                  <a:pt x="0" y="25187"/>
                </a:lnTo>
                <a:arcTo wR="0" hR="0" stAng="10800000" swAng="-5400000"/>
                <a:lnTo>
                  <a:pt x="21600" y="251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7"/>
          <p:cNvSpPr/>
          <p:nvPr/>
        </p:nvSpPr>
        <p:spPr>
          <a:xfrm>
            <a:off x="1000080" y="4800600"/>
            <a:ext cx="392040" cy="457200"/>
          </a:xfrm>
          <a:custGeom>
            <a:avLst/>
            <a:gdLst>
              <a:gd name="textAreaLeft" fmla="*/ 0 w 392040"/>
              <a:gd name="textAreaRight" fmla="*/ 392400 w 392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87">
                <a:moveTo>
                  <a:pt x="0" y="0"/>
                </a:moveTo>
                <a:arcTo wR="0" hR="0" stAng="16200000" swAng="-5400000"/>
                <a:lnTo>
                  <a:pt x="0" y="25187"/>
                </a:lnTo>
                <a:arcTo wR="0" hR="0" stAng="10800000" swAng="-5400000"/>
                <a:lnTo>
                  <a:pt x="21600" y="251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8"/>
          <p:cNvSpPr/>
          <p:nvPr/>
        </p:nvSpPr>
        <p:spPr>
          <a:xfrm>
            <a:off x="1000080" y="3124080"/>
            <a:ext cx="392040" cy="457200"/>
          </a:xfrm>
          <a:custGeom>
            <a:avLst/>
            <a:gdLst>
              <a:gd name="textAreaLeft" fmla="*/ 0 w 392040"/>
              <a:gd name="textAreaRight" fmla="*/ 392400 w 392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87">
                <a:moveTo>
                  <a:pt x="0" y="0"/>
                </a:moveTo>
                <a:arcTo wR="0" hR="0" stAng="16200000" swAng="-5400000"/>
                <a:lnTo>
                  <a:pt x="0" y="25187"/>
                </a:lnTo>
                <a:arcTo wR="0" hR="0" stAng="10800000" swAng="-5400000"/>
                <a:lnTo>
                  <a:pt x="21600" y="251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</a:rPr>
              <a:t>Basic(Beginners' All-purpose Symbolic Instruction Code )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应用：应用程序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</a:rPr>
              <a:t>FORTRAN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（公式转化）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应用：科学计算运用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应用：数学科学计算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</a:rPr>
              <a:t>C/C++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应用：应用程序、系统程序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应用：网络程序、跨平台应用（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</a:rPr>
              <a:t>java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虚拟机）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创建界面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74720" y="1541520"/>
          <a:ext cx="7671960" cy="4085640"/>
        </p:xfrm>
        <a:graphic>
          <a:graphicData uri="http://schemas.openxmlformats.org/drawingml/2006/table">
            <a:tbl>
              <a:tblPr/>
              <a:tblGrid>
                <a:gridCol w="1099080"/>
                <a:gridCol w="6572880"/>
              </a:tblGrid>
              <a:tr h="5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步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b3c8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操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b3c8df"/>
                    </a:solidFill>
                  </a:tcPr>
                </a:tc>
              </a:tr>
              <a:tr h="88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改变窗体文件名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单击标准工具栏的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工具箱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按钮，显示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工具箱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对话框。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5f5f5f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从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工具箱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中将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Label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控件拖放到窗体上，创建一个控件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Label1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从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工具箱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中将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PictureBox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控件拖放到窗体上，创建一个控件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PictureBox1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。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5" name="AutoShape 25"/>
          <p:cNvSpPr/>
          <p:nvPr/>
        </p:nvSpPr>
        <p:spPr>
          <a:xfrm>
            <a:off x="1295280" y="2286000"/>
            <a:ext cx="392400" cy="457200"/>
          </a:xfrm>
          <a:custGeom>
            <a:avLst/>
            <a:gdLst>
              <a:gd name="textAreaLeft" fmla="*/ 0 w 392400"/>
              <a:gd name="textAreaRight" fmla="*/ 392760 w 392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64">
                <a:moveTo>
                  <a:pt x="0" y="0"/>
                </a:moveTo>
                <a:arcTo wR="0" hR="0" stAng="16200000" swAng="-5400000"/>
                <a:lnTo>
                  <a:pt x="0" y="25164"/>
                </a:lnTo>
                <a:arcTo wR="0" hR="0" stAng="10800000" swAng="-5400000"/>
                <a:lnTo>
                  <a:pt x="21600" y="2516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6"/>
          <p:cNvSpPr/>
          <p:nvPr/>
        </p:nvSpPr>
        <p:spPr>
          <a:xfrm>
            <a:off x="1295280" y="3962520"/>
            <a:ext cx="392400" cy="457200"/>
          </a:xfrm>
          <a:custGeom>
            <a:avLst/>
            <a:gdLst>
              <a:gd name="textAreaLeft" fmla="*/ 0 w 392400"/>
              <a:gd name="textAreaRight" fmla="*/ 392760 w 392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64">
                <a:moveTo>
                  <a:pt x="0" y="0"/>
                </a:moveTo>
                <a:arcTo wR="0" hR="0" stAng="16200000" swAng="-5400000"/>
                <a:lnTo>
                  <a:pt x="0" y="25164"/>
                </a:lnTo>
                <a:arcTo wR="0" hR="0" stAng="10800000" swAng="-5400000"/>
                <a:lnTo>
                  <a:pt x="21600" y="2516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7"/>
          <p:cNvSpPr/>
          <p:nvPr/>
        </p:nvSpPr>
        <p:spPr>
          <a:xfrm>
            <a:off x="1295280" y="4800600"/>
            <a:ext cx="392400" cy="457200"/>
          </a:xfrm>
          <a:custGeom>
            <a:avLst/>
            <a:gdLst>
              <a:gd name="textAreaLeft" fmla="*/ 0 w 392400"/>
              <a:gd name="textAreaRight" fmla="*/ 392760 w 392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64">
                <a:moveTo>
                  <a:pt x="0" y="0"/>
                </a:moveTo>
                <a:arcTo wR="0" hR="0" stAng="16200000" swAng="-5400000"/>
                <a:lnTo>
                  <a:pt x="0" y="25164"/>
                </a:lnTo>
                <a:arcTo wR="0" hR="0" stAng="10800000" swAng="-5400000"/>
                <a:lnTo>
                  <a:pt x="21600" y="2516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8"/>
          <p:cNvSpPr/>
          <p:nvPr/>
        </p:nvSpPr>
        <p:spPr>
          <a:xfrm>
            <a:off x="1295280" y="3124080"/>
            <a:ext cx="392400" cy="457200"/>
          </a:xfrm>
          <a:custGeom>
            <a:avLst/>
            <a:gdLst>
              <a:gd name="textAreaLeft" fmla="*/ 0 w 392400"/>
              <a:gd name="textAreaRight" fmla="*/ 392760 w 392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64">
                <a:moveTo>
                  <a:pt x="0" y="0"/>
                </a:moveTo>
                <a:arcTo wR="0" hR="0" stAng="16200000" swAng="-5400000"/>
                <a:lnTo>
                  <a:pt x="0" y="25164"/>
                </a:lnTo>
                <a:arcTo wR="0" hR="0" stAng="10800000" swAng="-5400000"/>
                <a:lnTo>
                  <a:pt x="21600" y="2516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创建界面 （续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502720" y="1507320"/>
            <a:ext cx="30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界面绘制完毕，结果如下图所示：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2" descr="clip_image002"/>
          <p:cNvPicPr/>
          <p:nvPr/>
        </p:nvPicPr>
        <p:blipFill>
          <a:blip r:embed="rId2"/>
          <a:stretch/>
        </p:blipFill>
        <p:spPr>
          <a:xfrm>
            <a:off x="1538280" y="2314440"/>
            <a:ext cx="5429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314000" y="2161800"/>
            <a:ext cx="637236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设置主窗体属性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设置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Label1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属性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设置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PictureBox1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属性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设置布局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设置属性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127280" y="165240"/>
            <a:ext cx="83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设置属性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465768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运行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Windows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应用程序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5950080" y="183960"/>
            <a:ext cx="20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运行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Windows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应用程序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058760" y="1433160"/>
            <a:ext cx="30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运行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Welcome”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应用程序：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clip_image002"/>
          <p:cNvPicPr/>
          <p:nvPr/>
        </p:nvPicPr>
        <p:blipFill>
          <a:blip r:embed="rId2"/>
          <a:stretch/>
        </p:blipFill>
        <p:spPr>
          <a:xfrm>
            <a:off x="1209600" y="2476440"/>
            <a:ext cx="53593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90040" y="1623960"/>
            <a:ext cx="7473960" cy="47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853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476600" y="471600"/>
            <a:ext cx="3589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窗体和控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1068480" y="1778040"/>
            <a:ext cx="6653160" cy="33764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个窗体和控件都有各自的属性，它们一起构成了应用程序的可视化部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图形用户界面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phic User Interfac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U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0" y="179280"/>
            <a:ext cx="342432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窗体和控件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465768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代码视图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7298280" y="297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代码视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119600" y="1432800"/>
            <a:ext cx="156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代码编辑模式：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878040" y="2077920"/>
            <a:ext cx="691344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00120" y="1541520"/>
            <a:ext cx="7129440" cy="38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中的窗体、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Label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控件和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PictureBox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控件都是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提供的类，被组织在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System.Windows.Forms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命名空间中 。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属性窗口里的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Text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Size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和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BackColor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等都是对象的属性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程序分析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6754680" y="432720"/>
            <a:ext cx="13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2.3.7 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程序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314000" y="1747440"/>
            <a:ext cx="6372360" cy="37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集成开发环境简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可视化开发的初步认识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小结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实验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习题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725976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第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章 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与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Visual Studio</a:t>
            </a:r>
            <a:endParaRPr b="1" lang="en-US" sz="26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90040" y="1623960"/>
            <a:ext cx="7473960" cy="47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853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476600" y="471600"/>
            <a:ext cx="3589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1.4 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990720" y="1508040"/>
            <a:ext cx="6845040" cy="436428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章主要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集成开发环境的构成，包括解决方案资源管理器、类视图、属性窗口做了简单的介绍。其中解决方案资源管理器的使用、类视图和属性窗口的使用都是后面学习的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0" y="179280"/>
            <a:ext cx="342432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小结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314000" y="1747440"/>
            <a:ext cx="6372360" cy="37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集成开发环境简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可视化开发的初步认识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小结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实验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习题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725976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第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章 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与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Visual Studio</a:t>
            </a:r>
            <a:endParaRPr b="1" lang="en-US" sz="26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VS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认识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(IDE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：集成开发环境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不用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VS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能写程序吗？嘿嘿嘿嘿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实验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7197840" y="37692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1.5 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实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Practice_Splash"/>
          <p:cNvPicPr/>
          <p:nvPr/>
        </p:nvPicPr>
        <p:blipFill>
          <a:blip r:embed="rId2"/>
          <a:stretch/>
        </p:blipFill>
        <p:spPr>
          <a:xfrm>
            <a:off x="539640" y="1168560"/>
            <a:ext cx="1675080" cy="51559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7"/>
          <p:cNvSpPr/>
          <p:nvPr/>
        </p:nvSpPr>
        <p:spPr>
          <a:xfrm>
            <a:off x="2833560" y="2286000"/>
            <a:ext cx="5040360" cy="2057400"/>
          </a:xfrm>
          <a:prstGeom prst="roundRect">
            <a:avLst>
              <a:gd name="adj" fmla="val 4167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3073320" y="2473200"/>
            <a:ext cx="4552920" cy="1683000"/>
          </a:xfrm>
          <a:prstGeom prst="roundRect">
            <a:avLst>
              <a:gd name="adj" fmla="val 7333"/>
            </a:avLst>
          </a:prstGeom>
          <a:gradFill rotWithShape="0">
            <a:gsLst>
              <a:gs pos="0">
                <a:srgbClr val="f0f1e1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绘制一个计算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</a:rPr>
              <a:t>作业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熟悉一下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VS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环境。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3560" y="1007640"/>
            <a:ext cx="7524720" cy="32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33984"/>
                </a:solidFill>
                <a:latin typeface="Arial"/>
              </a:rPr>
              <a:t>变量、数据类型和表达式</a:t>
            </a:r>
            <a:br>
              <a:rPr sz="3400"/>
            </a:br>
            <a:endParaRPr b="1" lang="en-US" sz="3400" spc="-1" strike="noStrike">
              <a:solidFill>
                <a:srgbClr val="133984"/>
              </a:solidFill>
              <a:latin typeface="Arial"/>
            </a:endParaRPr>
          </a:p>
        </p:txBody>
      </p:sp>
      <p:pic>
        <p:nvPicPr>
          <p:cNvPr id="227" name="Picture 3" descr="2640_Intro_Splash copy"/>
          <p:cNvPicPr/>
          <p:nvPr/>
        </p:nvPicPr>
        <p:blipFill>
          <a:blip r:embed="rId2"/>
          <a:stretch/>
        </p:blipFill>
        <p:spPr>
          <a:xfrm>
            <a:off x="2189160" y="3697200"/>
            <a:ext cx="5041800" cy="20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onsole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</a:rPr>
              <a:t>类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onsole.Write 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</a:rPr>
              <a:t>表示向控制台直接写入字符串，不进行换行，可继续接着前面的字符写入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451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onsole.WriteLine 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</a:rPr>
              <a:t>表示向控制台写入字符串后换行。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onsole.Read 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</a:rPr>
              <a:t>表示从控制台读取字符串，不换行。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onsole.ReadLine 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</a:rPr>
              <a:t>表示从控制台读取字符串后进行换行。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onsole.ReadKey 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</a:rPr>
              <a:t>获取用户按下的下一个字符或功能键。按下的键显示在控制台窗口中。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onsole.Beep 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</a:rPr>
              <a:t>方法 通过控制台扬声器播放提示音。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onsole.Clear 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</a:rPr>
              <a:t>方法 清除控制台缓冲区和相应的控制台窗口的显示信息。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31640" y="380520"/>
            <a:ext cx="8229600" cy="59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ackgroundColor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控制台的背景色。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ufferHeight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缓冲区的高度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ufferWidth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缓冲区的宽度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apsLock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一个值，该值指示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Caps Lock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键盘切换键是打开的还是关闭的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CursorLeft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光标在缓冲区中的列位置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CursorSize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光标在字符单元格中的高度。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CursorTop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光标在缓冲区中的行位置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CursorVisible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一个值，用以指示光标是否可见。  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rror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标准错误输出流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ForegroundColor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控制台的前景色。  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In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标准输入流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InputEncoding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控制台用于读取输入的编码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KeyAvailable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一个值，该值指示按键操作在输入流中是否可用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LargestWindowHeight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根据当前字体和屏幕分辨率获取控制台窗口可能具有的最大行数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LargestWindowWidth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根据当前字体和屏幕分辨率获取控制台窗口可能具有的最大列数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NumberLock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一个值，该值指示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Num Lock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键盘切换键是打开的还是关闭的。 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Out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标准输出流。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OutputEncoding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控制台用于写入输出的编码。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Title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要显示在控制台标题栏中的标题。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TreatControlCAsInput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一个值，该值指示是将修改键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Control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和控制台键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C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的组合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(Ctrl+C)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视为普通输入，还是视为由操作系统处理的中断。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WindowHeight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控制台窗口区域的高度。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WindowLeft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控制台窗口区域的最左边相对于屏幕缓冲区的位置。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WindowTop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控制台窗口区域的最顶部相对于屏幕缓冲区的位置。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4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WindowWidth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312560" y="2080800"/>
            <a:ext cx="63738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</a:rPr>
              <a:t>本章学习目标：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</a:rPr>
              <a:t>声明并使用变量</a:t>
            </a:r>
            <a:r>
              <a:rPr b="0" lang="zh-CN" sz="2400" spc="-1" strike="noStrike">
                <a:solidFill>
                  <a:srgbClr val="133984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</a:rPr>
              <a:t>了解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</a:rPr>
              <a:t>C#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</a:rPr>
              <a:t>的主要数据类型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</a:rPr>
              <a:t>理解值类型</a:t>
            </a:r>
            <a:r>
              <a:rPr b="0" lang="zh-CN" sz="2400" spc="-1" strike="noStrike">
                <a:solidFill>
                  <a:srgbClr val="133984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</a:rPr>
              <a:t>使用表达式进行数学运算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</a:rPr>
              <a:t>掌握不同数据类型的转换方法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-360" y="266760"/>
            <a:ext cx="8705880" cy="4744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</a:rPr>
              <a:t>目标</a:t>
            </a:r>
            <a:endParaRPr b="1" lang="en-US" sz="24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499760" y="1393560"/>
            <a:ext cx="58374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变量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常量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# 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数据类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类型转换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运算符和表达式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小结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习题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8083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第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章  变量、数据类型</a:t>
            </a:r>
            <a:r>
              <a:rPr b="1" lang="zh-CN" sz="3000" spc="-1" strike="noStrike">
                <a:solidFill>
                  <a:srgbClr val="133984"/>
                </a:solidFill>
                <a:latin typeface="宋体"/>
                <a:ea typeface="宋体"/>
              </a:rPr>
              <a:t>和表达式</a:t>
            </a:r>
            <a:endParaRPr b="1" lang="en-US" sz="30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294840"/>
            <a:ext cx="328788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变量</a:t>
            </a:r>
            <a:endParaRPr b="1" lang="en-US" sz="26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1285920" y="1798560"/>
            <a:ext cx="6205320" cy="9590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命名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1"/>
          <p:cNvSpPr/>
          <p:nvPr/>
        </p:nvSpPr>
        <p:spPr>
          <a:xfrm>
            <a:off x="1346040" y="4735440"/>
            <a:ext cx="6167520" cy="9986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声明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5494320" y="243000"/>
            <a:ext cx="2611440" cy="4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6554880" y="338040"/>
            <a:ext cx="1550880" cy="4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变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1346040" y="3198960"/>
            <a:ext cx="6205680" cy="95868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随堂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67880" y="2370240"/>
            <a:ext cx="7170840" cy="31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为变量命名时要遵循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语言的命名规范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：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变量名只能由字母、数字和下划线组成，而不能包含空格、标点符号、运算符等其他符号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变量名不能与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C#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中的关键字名称相同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272520" y="294840"/>
            <a:ext cx="4978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命名变量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标识符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992920" y="76680"/>
            <a:ext cx="21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命名变量</a:t>
            </a:r>
            <a:r>
              <a:rPr b="1" lang="zh-CN" sz="4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语法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数据类型       变量名  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;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数据类型       变量名   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=   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初始值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;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Integrated Development Environment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IDE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1280" indent="-431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Visual Basic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-431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Delphi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-431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Turbo C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-431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Borland C++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-431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++ Builder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-431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Visual C++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-431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Visual Studio:5.0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6.0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.NET(2002)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2003(.NET1.1)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2005(.NET2.0)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、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2008(.NET3.0)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、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2010(.NET4.0)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280" y="11160"/>
            <a:ext cx="322596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命名变量（续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4071960" y="395280"/>
            <a:ext cx="415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495360" indent="-495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命名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923760" y="1582560"/>
            <a:ext cx="6685200" cy="4457880"/>
          </a:xfrm>
          <a:prstGeom prst="roundRect">
            <a:avLst>
              <a:gd name="adj" fmla="val 4167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于变量命名的一般建议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1054080" y="3390840"/>
            <a:ext cx="6461280" cy="96192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变量名应具有描述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1038240" y="4619520"/>
            <a:ext cx="6396120" cy="11606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包含多个单词的变量名中，从第二个单词开始，每个单词都采取首字母大写的形式</a:t>
            </a:r>
            <a:r>
              <a:rPr b="1" lang="zh-CN" sz="4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1038240" y="2276640"/>
            <a:ext cx="6461280" cy="92052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变量名最好以小写字母开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280" y="11160"/>
            <a:ext cx="226548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声明变量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071960" y="357120"/>
            <a:ext cx="415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495360" indent="-495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声明变量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923760" y="1582560"/>
            <a:ext cx="6685200" cy="4132440"/>
          </a:xfrm>
          <a:prstGeom prst="roundRect">
            <a:avLst>
              <a:gd name="adj" fmla="val 4167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1346040" y="1892160"/>
            <a:ext cx="5607360" cy="13827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量使用原则：先声明，后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1384200" y="3851280"/>
            <a:ext cx="5748480" cy="167652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量声明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类型  变量名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499760" y="1393560"/>
            <a:ext cx="58374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变量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常量</a:t>
            </a:r>
            <a:r>
              <a:rPr b="0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# 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数据类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类型转换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运算符和表达式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小结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实验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习题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8083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第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章  变量、数据类型</a:t>
            </a:r>
            <a:r>
              <a:rPr b="1" lang="zh-CN" sz="3000" spc="-1" strike="noStrike">
                <a:solidFill>
                  <a:srgbClr val="133984"/>
                </a:solidFill>
                <a:latin typeface="宋体"/>
                <a:ea typeface="宋体"/>
              </a:rPr>
              <a:t>和表达式</a:t>
            </a:r>
            <a:endParaRPr b="1" lang="en-US" sz="30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280" y="11160"/>
            <a:ext cx="218916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常量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4071960" y="395280"/>
            <a:ext cx="415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495360" indent="-495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常量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923760" y="1866960"/>
            <a:ext cx="6685200" cy="3848040"/>
          </a:xfrm>
          <a:prstGeom prst="roundRect">
            <a:avLst>
              <a:gd name="adj" fmla="val 4167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1386000" y="2508120"/>
            <a:ext cx="5682960" cy="9590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定义：常量就是其值固定不变的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0"/>
          <p:cNvSpPr/>
          <p:nvPr/>
        </p:nvSpPr>
        <p:spPr>
          <a:xfrm>
            <a:off x="1422360" y="4159080"/>
            <a:ext cx="5667480" cy="9590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声明方法：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onst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数据类型  常量表达式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499760" y="1393560"/>
            <a:ext cx="58374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变量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常量</a:t>
            </a:r>
            <a:r>
              <a:rPr b="0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C# </a:t>
            </a:r>
            <a:r>
              <a:rPr b="1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数据类型</a:t>
            </a:r>
            <a:r>
              <a:rPr b="0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类型转换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运算符和表达式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小结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实验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习题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8083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第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章  变量、数据类型</a:t>
            </a:r>
            <a:r>
              <a:rPr b="1" lang="zh-CN" sz="3000" spc="-1" strike="noStrike">
                <a:solidFill>
                  <a:srgbClr val="133984"/>
                </a:solidFill>
                <a:latin typeface="宋体"/>
                <a:ea typeface="宋体"/>
              </a:rPr>
              <a:t>和表达式</a:t>
            </a:r>
            <a:endParaRPr b="1" lang="en-US" sz="30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  <a:ea typeface="宋体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值类型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整数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没有小数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字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~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一个字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有小数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范围大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dou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范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flo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精确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十进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bool:true,false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725976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3984"/>
                </a:solidFill>
                <a:latin typeface="Arial"/>
                <a:ea typeface="宋体"/>
              </a:rPr>
              <a:t>C# </a:t>
            </a:r>
            <a:r>
              <a:rPr b="1" lang="zh-CN" sz="3000" spc="-1" strike="noStrike">
                <a:solidFill>
                  <a:srgbClr val="133984"/>
                </a:solidFill>
                <a:latin typeface="Arial"/>
                <a:ea typeface="宋体"/>
              </a:rPr>
              <a:t>数据类型</a:t>
            </a:r>
            <a:r>
              <a:rPr b="1" lang="zh-CN" sz="28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5916600" y="38736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#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数据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846000" y="1346040"/>
            <a:ext cx="2227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#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数据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"/>
          <p:cNvPicPr/>
          <p:nvPr/>
        </p:nvPicPr>
        <p:blipFill>
          <a:blip r:embed="rId2"/>
          <a:stretch/>
        </p:blipFill>
        <p:spPr>
          <a:xfrm>
            <a:off x="1268280" y="1930320"/>
            <a:ext cx="62200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725976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引用类型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1268280" y="2468520"/>
            <a:ext cx="6107400" cy="8064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类（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lass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1268280" y="3429000"/>
            <a:ext cx="6107400" cy="8064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接口（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interfac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5916600" y="38736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引用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9"/>
          <p:cNvSpPr/>
          <p:nvPr/>
        </p:nvSpPr>
        <p:spPr>
          <a:xfrm>
            <a:off x="1268280" y="1355760"/>
            <a:ext cx="6107400" cy="95868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内存中不直接存储引用类型的数据，而是存储该数据的地址 。引用类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7"/>
          <p:cNvSpPr/>
          <p:nvPr/>
        </p:nvSpPr>
        <p:spPr>
          <a:xfrm>
            <a:off x="1268280" y="4389480"/>
            <a:ext cx="6107400" cy="8064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数组（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rray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1268280" y="5349960"/>
            <a:ext cx="6107400" cy="8064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字符串（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tring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28764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值类型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5607000" y="430920"/>
            <a:ext cx="25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值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98"/>
          <p:cNvSpPr/>
          <p:nvPr/>
        </p:nvSpPr>
        <p:spPr>
          <a:xfrm>
            <a:off x="1116000" y="159228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值类型主要由简单类型、枚举类型和结构类型这三类组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020600" y="2490840"/>
          <a:ext cx="6739200" cy="3319560"/>
        </p:xfrm>
        <a:graphic>
          <a:graphicData uri="http://schemas.openxmlformats.org/drawingml/2006/table">
            <a:tbl>
              <a:tblPr/>
              <a:tblGrid>
                <a:gridCol w="1192320"/>
                <a:gridCol w="2247840"/>
                <a:gridCol w="3299040"/>
              </a:tblGrid>
              <a:tr h="361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种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值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简单类型（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imple types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有符号整数：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byte, short, int, 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无符号整数：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byte, ushort, uint, u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Unicode 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字符：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IEEE 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浮点数：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float, 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十进制数：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deci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布尔值：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b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枚举类型（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Enum type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enum E {...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结构类型（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truct type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truct S {...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314360" y="1872720"/>
            <a:ext cx="5616720" cy="29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整数类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浮点类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十进制类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布尔类型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字符类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-360" y="333000"/>
            <a:ext cx="28321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简单类型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14000" y="1375920"/>
            <a:ext cx="63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“</a:t>
            </a: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选项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”</a:t>
            </a: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对话框</a:t>
            </a:r>
            <a:r>
              <a:rPr b="0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解决方案资源管理器</a:t>
            </a:r>
            <a:r>
              <a:rPr b="0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类视图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“</a:t>
            </a: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属性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”</a:t>
            </a: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窗口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工具箱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智能感知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使用帮助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0000" y="333000"/>
            <a:ext cx="374508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33984"/>
                </a:solidFill>
                <a:latin typeface="Arial"/>
                <a:ea typeface="宋体"/>
              </a:rPr>
              <a:t>开发环境简介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36972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整数类型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88" name="Rectangle 60"/>
          <p:cNvSpPr/>
          <p:nvPr/>
        </p:nvSpPr>
        <p:spPr>
          <a:xfrm>
            <a:off x="1116000" y="118152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整数类型在计算机中的取值范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885960" y="1816200"/>
          <a:ext cx="7065720" cy="4155840"/>
        </p:xfrm>
        <a:graphic>
          <a:graphicData uri="http://schemas.openxmlformats.org/drawingml/2006/table">
            <a:tbl>
              <a:tblPr/>
              <a:tblGrid>
                <a:gridCol w="1163520"/>
                <a:gridCol w="923760"/>
                <a:gridCol w="1044720"/>
                <a:gridCol w="393372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位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数据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取值范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有符号整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28~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32 768~32 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2 147 483 648~2 147 483 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9 223 372 036 854 775 808~9 223 372 036 854 775 8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无符号整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0~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u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0~65 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u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0~4 294 967 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u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0~18 446 744 073 709 551 6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36972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浮点类型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91" name="Rectangle 60"/>
          <p:cNvSpPr/>
          <p:nvPr/>
        </p:nvSpPr>
        <p:spPr>
          <a:xfrm>
            <a:off x="1000080" y="143388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浮点类型在计算机中的取值范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114560" y="2430360"/>
          <a:ext cx="6414840" cy="2649600"/>
        </p:xfrm>
        <a:graphic>
          <a:graphicData uri="http://schemas.openxmlformats.org/drawingml/2006/table">
            <a:tbl>
              <a:tblPr/>
              <a:tblGrid>
                <a:gridCol w="1520640"/>
                <a:gridCol w="1096920"/>
                <a:gridCol w="1309680"/>
                <a:gridCol w="2487600"/>
              </a:tblGrid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位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数据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取值范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单精度浮点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.5 × 10</a:t>
                      </a:r>
                      <a:r>
                        <a:rPr b="1" lang="en-US" sz="1800" spc="-1" strike="noStrike" baseline="30000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−45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到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~3.4 × 10</a:t>
                      </a:r>
                      <a:r>
                        <a:rPr b="1" lang="en-US" sz="1800" spc="-1" strike="noStrike" baseline="30000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38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， 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7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位精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双精度浮点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5.0 × 10</a:t>
                      </a:r>
                      <a:r>
                        <a:rPr b="1" lang="en-US" sz="1800" spc="-1" strike="noStrike" baseline="30000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−324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~1.7 × 10</a:t>
                      </a:r>
                      <a:r>
                        <a:rPr b="1" lang="en-US" sz="1800" spc="-1" strike="noStrike" baseline="30000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308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5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位精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79280"/>
            <a:ext cx="315108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十进制类型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1038240" y="174204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十进制类型在计算机中的取值范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001880" y="2779560"/>
          <a:ext cx="6949800" cy="1839960"/>
        </p:xfrm>
        <a:graphic>
          <a:graphicData uri="http://schemas.openxmlformats.org/drawingml/2006/table">
            <a:tbl>
              <a:tblPr/>
              <a:tblGrid>
                <a:gridCol w="1900080"/>
                <a:gridCol w="1362240"/>
                <a:gridCol w="1515960"/>
                <a:gridCol w="2171520"/>
              </a:tblGrid>
              <a:tr h="96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位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数据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取值范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十进制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dec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.0 × 10</a:t>
                      </a:r>
                      <a:r>
                        <a:rPr b="1" lang="en-US" sz="1800" spc="-1" strike="noStrike" baseline="30000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−28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~7.9  × 10</a:t>
                      </a:r>
                      <a:r>
                        <a:rPr b="1" lang="en-US" sz="1800" spc="-1" strike="noStrike" baseline="30000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28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, 29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位精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34704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布尔类型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97" name="Rectangle 60"/>
          <p:cNvSpPr/>
          <p:nvPr/>
        </p:nvSpPr>
        <p:spPr>
          <a:xfrm>
            <a:off x="1116000" y="1563480"/>
            <a:ext cx="680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布尔类型表示现实中的“真”或“假”这两个概念，主要用来进行逻辑判断。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#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中，分别采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ru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als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这两个值来表示“真”和“假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523880" y="2941560"/>
          <a:ext cx="6037200" cy="2037960"/>
        </p:xfrm>
        <a:graphic>
          <a:graphicData uri="http://schemas.openxmlformats.org/drawingml/2006/table">
            <a:tbl>
              <a:tblPr/>
              <a:tblGrid>
                <a:gridCol w="1424880"/>
                <a:gridCol w="965520"/>
                <a:gridCol w="1424880"/>
                <a:gridCol w="2221920"/>
              </a:tblGrid>
              <a:tr h="78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Arial"/>
                        </a:rPr>
                        <a:t>描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Arial"/>
                        </a:rPr>
                        <a:t>位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Arial"/>
                        </a:rPr>
                        <a:t>数据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Arial"/>
                        </a:rPr>
                        <a:t>取值范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布尔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true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或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ture,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字符类型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949320" y="1851480"/>
            <a:ext cx="70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字符类型采用国际上公认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Unicod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标准字符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16080" y="2905200"/>
          <a:ext cx="6554520" cy="2199960"/>
        </p:xfrm>
        <a:graphic>
          <a:graphicData uri="http://schemas.openxmlformats.org/drawingml/2006/table">
            <a:tbl>
              <a:tblPr/>
              <a:tblGrid>
                <a:gridCol w="1683000"/>
                <a:gridCol w="1296000"/>
                <a:gridCol w="1140840"/>
                <a:gridCol w="2434680"/>
              </a:tblGrid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位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数据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取值范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字符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在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0~65 535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范围内以双字节编码的任意符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1499760" y="1393560"/>
            <a:ext cx="58374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运算符类型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运算符的优先级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简单的赋值运算符与赋值表达式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算术运算符与算术表达式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关系运算符与关系表达式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逻辑运算符与逻辑表达式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扩充后的赋值运算符与赋值表达式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条件运算符与条件表达式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-360" y="333000"/>
            <a:ext cx="310500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运算符和表达式 </a:t>
            </a:r>
            <a:endParaRPr b="1" lang="en-US" sz="24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5338800" y="3121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运算符和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344520"/>
            <a:ext cx="8083440" cy="4572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运算符类型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一个符号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代表一种运算操作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923760" y="1582560"/>
            <a:ext cx="6685200" cy="4457880"/>
          </a:xfrm>
          <a:prstGeom prst="roundRect">
            <a:avLst>
              <a:gd name="adj" fmla="val 4167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运算符分为三类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1131840" y="230508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一元运算符：      只使用一个操作数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1131840" y="353376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二元运算符：      使用两个操作数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1131840" y="480204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三元运算符：       使用三个操作数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135000"/>
            <a:ext cx="341784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运算符的优先级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5205240" y="11160"/>
            <a:ext cx="2976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运算符的优先级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1726920" y="1433880"/>
            <a:ext cx="2640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运算符从高到低的优先级顺序：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00120" y="1957320"/>
          <a:ext cx="7589520" cy="4128840"/>
        </p:xfrm>
        <a:graphic>
          <a:graphicData uri="http://schemas.openxmlformats.org/drawingml/2006/table">
            <a:tbl>
              <a:tblPr/>
              <a:tblGrid>
                <a:gridCol w="2306880"/>
                <a:gridCol w="5282640"/>
              </a:tblGrid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运算符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运  算  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初级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x.y, f(x), x+a[x], +, x--, new, typeof, checked, uncheck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一元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!, ~, ++, --, (T)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乘法、除法、取模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*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, /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增量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+ ,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移位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lt;&lt; , &gt;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关系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lt; , &gt; , &lt;= , &gt;= , is, 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等式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== , !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逻辑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与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amp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逻辑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异或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^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逻辑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或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条件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与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amp;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条件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或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|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条件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?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6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赋值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= , *= , /= , %= , += , -= , &lt;&lt;=, &gt;&gt;= , &amp;= , ^= , |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280" y="95400"/>
            <a:ext cx="491508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简单的赋值运算符与赋值表达式</a:t>
            </a:r>
            <a:endParaRPr b="1" lang="en-US" sz="24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4264200" y="13824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简单的赋值运算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与赋值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214280" y="2942280"/>
            <a:ext cx="5815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赋值就是给一个变量赋一个新值。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=”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运算符用于将等号右边的操作数（第二个操作数）的值赋给左边的操作数（第一个操作数）。表达式的结果是右边操作数的值，所以赋值操作可以串联在一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95400"/>
            <a:ext cx="445464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算术运算符与算术表达式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4341960" y="15228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算术运算符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算术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4091040" y="143316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算术运算符用于创建执行数学操作的表达式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01880" y="2328840"/>
          <a:ext cx="7146360" cy="3568320"/>
        </p:xfrm>
        <a:graphic>
          <a:graphicData uri="http://schemas.openxmlformats.org/drawingml/2006/table">
            <a:tbl>
              <a:tblPr/>
              <a:tblGrid>
                <a:gridCol w="1787040"/>
                <a:gridCol w="1787040"/>
                <a:gridCol w="1785240"/>
                <a:gridCol w="1787040"/>
              </a:tblGrid>
              <a:tr h="599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运 算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    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运 算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    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/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自增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自减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取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5843520" cy="35892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选项”对话框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1635480" y="1752480"/>
            <a:ext cx="2981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914400" indent="-457200">
              <a:lnSpc>
                <a:spcPct val="100000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选项”对话框的布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如何应用选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显示所有设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640" y="95400"/>
            <a:ext cx="445464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关系运算符与关系表达式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4341960" y="13320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关系运算符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关系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460520" y="1617840"/>
            <a:ext cx="6030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关系运算符用于创建一个表达式，该表达式用来比较两个对象并返回布尔值。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895320" y="2660760"/>
          <a:ext cx="7211520" cy="3025440"/>
        </p:xfrm>
        <a:graphic>
          <a:graphicData uri="http://schemas.openxmlformats.org/drawingml/2006/table">
            <a:tbl>
              <a:tblPr/>
              <a:tblGrid>
                <a:gridCol w="1766160"/>
                <a:gridCol w="1829880"/>
                <a:gridCol w="1877400"/>
                <a:gridCol w="1738080"/>
              </a:tblGrid>
              <a:tr h="75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运  算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    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运  算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    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等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大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等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小于或等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小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大于或等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95400"/>
            <a:ext cx="445464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逻辑运算符与逻辑表达式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4341960" y="13320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逻辑运算符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逻辑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460520" y="1617120"/>
            <a:ext cx="6030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逻辑运算符和布尔型操作数一起组成了逻辑表达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42960" y="2394000"/>
          <a:ext cx="7546680" cy="3747600"/>
        </p:xfrm>
        <a:graphic>
          <a:graphicData uri="http://schemas.openxmlformats.org/drawingml/2006/table">
            <a:tbl>
              <a:tblPr/>
              <a:tblGrid>
                <a:gridCol w="1811160"/>
                <a:gridCol w="5735520"/>
              </a:tblGrid>
              <a:tr h="41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运算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!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NOT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（非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amp;&amp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AND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（短路）如果左边为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false,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右边就不必再计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amp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AND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（非短路）就算左边为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false,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右还计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||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OR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（短路）如果左边成立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右边不再执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OR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（非短路）无论左边是否为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true,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右边始终会执行判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^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XOR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（异或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tru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测试 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true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值（重载时使用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fal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测试 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false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值（重载时使用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9640" y="95400"/>
            <a:ext cx="380232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扩充后的赋值</a:t>
            </a:r>
            <a:br>
              <a:rPr sz="2400"/>
            </a:b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运算符与赋值表达式</a:t>
            </a:r>
            <a:endParaRPr b="1" lang="en-US" sz="24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341960" y="13320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扩充后的赋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运算符与赋值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460520" y="1615680"/>
            <a:ext cx="6030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扩充后的赋值运算符与赋值表达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23760" y="2276640"/>
          <a:ext cx="6810480" cy="3687480"/>
        </p:xfrm>
        <a:graphic>
          <a:graphicData uri="http://schemas.openxmlformats.org/drawingml/2006/table">
            <a:tbl>
              <a:tblPr/>
              <a:tblGrid>
                <a:gridCol w="2811600"/>
                <a:gridCol w="399888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运 算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    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赋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+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加法赋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-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减法赋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*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乘法赋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/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除法赋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%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取模赋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640" y="95400"/>
            <a:ext cx="445464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条件运算符与条件表达式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4341960" y="13320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条件运算符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条件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1190520" y="2525760"/>
            <a:ext cx="6453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条件运算符是唯一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个操作数的运算符，所以有时又称为三元运算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对条件表达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?x:y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先计算条件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然后进行判断。如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值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ru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计算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值，运算结果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值；否则，计算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值，运算结果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5843520" cy="35892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33984"/>
                </a:solidFill>
                <a:latin typeface="宋体"/>
                <a:ea typeface="宋体"/>
              </a:rPr>
              <a:t>“</a:t>
            </a:r>
            <a:r>
              <a:rPr b="1" lang="zh-CN" sz="3000" spc="-1" strike="noStrike">
                <a:solidFill>
                  <a:srgbClr val="133984"/>
                </a:solidFill>
                <a:latin typeface="宋体"/>
                <a:ea typeface="宋体"/>
              </a:rPr>
              <a:t>选项”对话框的布局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4495680" y="43344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495360" indent="-495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1.2.1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选项对话框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9" descr="clip_image002"/>
          <p:cNvPicPr/>
          <p:nvPr/>
        </p:nvPicPr>
        <p:blipFill>
          <a:blip r:embed="rId2"/>
          <a:stretch/>
        </p:blipFill>
        <p:spPr>
          <a:xfrm>
            <a:off x="1282680" y="1790640"/>
            <a:ext cx="59184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解决方案资源管理器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10" name="Rectangle 43"/>
          <p:cNvSpPr/>
          <p:nvPr/>
        </p:nvSpPr>
        <p:spPr>
          <a:xfrm>
            <a:off x="1524960" y="145296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决方案资源管理器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4" descr="clip_image002"/>
          <p:cNvPicPr/>
          <p:nvPr/>
        </p:nvPicPr>
        <p:blipFill>
          <a:blip r:embed="rId2"/>
          <a:stretch/>
        </p:blipFill>
        <p:spPr>
          <a:xfrm>
            <a:off x="3033720" y="1911240"/>
            <a:ext cx="25509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dx</cp:lastModifiedBy>
  <dcterms:modified xsi:type="dcterms:W3CDTF">2011-10-15T08:58:06Z</dcterms:modified>
  <cp:revision>24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