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3448-7DC4-4635-A95E-6FB2605FC4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2A22-B90C-428E-B15F-7AF1720289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E5CB-EB9B-4064-923F-A61DE595FE8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175B-155B-4CD9-99A3-DF75FBBB2CD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02D3-9EC1-4ACF-B74D-F4E958E8F8F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8ECA-A76C-47FB-B959-56DC45B0261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C1C0-F399-4700-9251-2C0CC96B8FD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CD99-AE1D-40FE-B862-AF7AD4E441D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AC3E-0B71-4AA1-99B0-CFA6C7325DD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F8D0-3ECD-4CF3-B0E2-F9DC562F7BA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2BF1-9D8B-40DB-97F7-F6DC2EC4154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C661-53A0-4970-9263-29FE90B59A9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F646-8F50-4322-A056-9557A182D15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F38D-C278-48D7-B4C5-50E4193A988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31C5-0FD2-4CAF-8A69-9157C71FEFF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93A6-55C9-41D5-9137-38864C78320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0197-C2C1-4F80-ADF7-213EEB66B17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9A5C-856B-46EC-90F1-1A64D5E2D54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B06F-AF8E-4A3B-BFA9-7C9C267831C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0F8B-11E1-496F-9BC4-AFEC96E8E31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FB40-AAA1-4EF2-B945-44A0BA1988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79BB-4B36-4B73-857E-E257FF3F105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994E-F8F5-443A-AF1F-2BB5CF0046F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B3F7-5211-485A-ADDE-900B7D6474D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8664-80C1-4F1C-8DB6-A57AF341C68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631C-CF68-4C94-882D-746186806CC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65C4-0854-4A54-BDCD-B6F728A4A9F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F53E-8965-4580-BD81-7FF3DC3C32A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7F71-86DF-4068-943C-E337BEF3957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B024-7A1E-45ED-A3FB-8B68B100030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DBA8-ECF1-48D3-B10E-8AAF71A2626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4C2F-5071-4CE5-9FAE-D6EBEA21FA0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E69F-D78A-4010-AF44-3E3733F3120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6DFD-5983-40BC-830C-142DE8A504C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1640" y="391464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3164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868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4080" y="126828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6520" y="126828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31640" y="391464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4080" y="391464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6520" y="391464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179280"/>
            <a:ext cx="91440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164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868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31640" y="391464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2-3"/>
          <p:cNvPicPr/>
          <p:nvPr/>
        </p:nvPicPr>
        <p:blipFill>
          <a:blip r:embed="rId3"/>
          <a:stretch/>
        </p:blipFill>
        <p:spPr>
          <a:xfrm>
            <a:off x="5391000" y="3808440"/>
            <a:ext cx="3753000" cy="3049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1" descr="图片5"/>
          <p:cNvPicPr/>
          <p:nvPr/>
        </p:nvPicPr>
        <p:blipFill>
          <a:blip r:embed="rId4"/>
          <a:stretch/>
        </p:blipFill>
        <p:spPr>
          <a:xfrm>
            <a:off x="838836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2" descr="图片2"/>
          <p:cNvPicPr/>
          <p:nvPr/>
        </p:nvPicPr>
        <p:blipFill>
          <a:blip r:embed="rId5"/>
          <a:stretch/>
        </p:blipFill>
        <p:spPr>
          <a:xfrm>
            <a:off x="613404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3" descr="图片1"/>
          <p:cNvPicPr/>
          <p:nvPr/>
        </p:nvPicPr>
        <p:blipFill>
          <a:blip r:embed="rId6"/>
          <a:stretch/>
        </p:blipFill>
        <p:spPr>
          <a:xfrm>
            <a:off x="539100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4" descr="图片3"/>
          <p:cNvPicPr/>
          <p:nvPr/>
        </p:nvPicPr>
        <p:blipFill>
          <a:blip r:embed="rId7"/>
          <a:stretch/>
        </p:blipFill>
        <p:spPr>
          <a:xfrm>
            <a:off x="688968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5" descr="图片4"/>
          <p:cNvPicPr/>
          <p:nvPr/>
        </p:nvPicPr>
        <p:blipFill>
          <a:blip r:embed="rId8"/>
          <a:stretch/>
        </p:blipFill>
        <p:spPr>
          <a:xfrm>
            <a:off x="7645320" y="179280"/>
            <a:ext cx="755640" cy="506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2" marL="132228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3" marL="173052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4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5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6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01560"/>
            <a:ext cx="883944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3984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133984"/>
                </a:solidFill>
                <a:latin typeface="Arial"/>
              </a:rPr>
              <a:t>语言，</a:t>
            </a:r>
            <a:r>
              <a:rPr b="1" lang="zh-CN" sz="3600" spc="-1" strike="noStrike">
                <a:solidFill>
                  <a:srgbClr val="133984"/>
                </a:solidFill>
                <a:latin typeface="Arial"/>
              </a:rPr>
              <a:t>C#</a:t>
            </a:r>
            <a:r>
              <a:rPr b="1" lang="zh-CN" sz="3600" spc="-1" strike="noStrike">
                <a:solidFill>
                  <a:srgbClr val="133984"/>
                </a:solidFill>
                <a:latin typeface="Arial"/>
              </a:rPr>
              <a:t>入门</a:t>
            </a:r>
            <a:endParaRPr b="1" lang="en-US" sz="36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981080" y="4373280"/>
            <a:ext cx="701064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                     </a:t>
            </a: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汇报人：</a:t>
            </a:r>
            <a:r>
              <a:rPr b="0" lang="en-US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Hyperpotato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汇报时间：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                    </a:t>
            </a: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汇报地点：逸夫楼</a:t>
            </a:r>
            <a:r>
              <a:rPr b="0" lang="en-US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208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pic>
        <p:nvPicPr>
          <p:cNvPr id="53" name="图片 3" descr="LOGO副本.jpg"/>
          <p:cNvPicPr/>
          <p:nvPr/>
        </p:nvPicPr>
        <p:blipFill>
          <a:blip r:embed="rId2"/>
          <a:stretch/>
        </p:blipFill>
        <p:spPr>
          <a:xfrm>
            <a:off x="-115920" y="4761000"/>
            <a:ext cx="26766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14360" y="2039760"/>
            <a:ext cx="6624720" cy="31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对象的属性</a:t>
            </a:r>
            <a:r>
              <a:rPr b="0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对象的关系</a:t>
            </a:r>
            <a:r>
              <a:rPr b="0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类的实现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-360" y="372600"/>
            <a:ext cx="48848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面向对象的基本概念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94840"/>
            <a:ext cx="328788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对象的属性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961920" y="1662120"/>
            <a:ext cx="6567480" cy="8064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对象的主要属性包括状态和行为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494320" y="243000"/>
            <a:ext cx="2611440" cy="42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9"/>
          <p:cNvSpPr/>
          <p:nvPr/>
        </p:nvSpPr>
        <p:spPr>
          <a:xfrm>
            <a:off x="846000" y="3046320"/>
            <a:ext cx="6759720" cy="882720"/>
          </a:xfrm>
          <a:prstGeom prst="roundRect">
            <a:avLst>
              <a:gd name="adj" fmla="val 15134"/>
            </a:avLst>
          </a:prstGeom>
          <a:solidFill>
            <a:srgbClr val="b3c8d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.  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对象的状态又称为对象的静态属性，主要指对象内部所包含的各种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9"/>
          <p:cNvSpPr/>
          <p:nvPr/>
        </p:nvSpPr>
        <p:spPr>
          <a:xfrm>
            <a:off x="846000" y="4484520"/>
            <a:ext cx="6759720" cy="941400"/>
          </a:xfrm>
          <a:prstGeom prst="roundRect">
            <a:avLst>
              <a:gd name="adj" fmla="val 15134"/>
            </a:avLst>
          </a:prstGeom>
          <a:solidFill>
            <a:srgbClr val="b3c8d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行为是对象的第二个属性，有时候又称为对象的操作，主要表示对象的动态属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294840"/>
            <a:ext cx="328788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对象的关系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1038240" y="1393920"/>
            <a:ext cx="6567480" cy="8064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对象的关系概括为三类：依赖、继承和泛化、关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494320" y="243000"/>
            <a:ext cx="2611440" cy="42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038240" y="2660760"/>
            <a:ext cx="6567480" cy="8445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依赖：当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功能实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依赖于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称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依赖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如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: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方法的参数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1038240" y="3929040"/>
            <a:ext cx="6567480" cy="8445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继承和泛化：当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是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特例时，就说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继承了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038240" y="5067360"/>
            <a:ext cx="6567480" cy="125712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关联 ：类与类之间的连接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当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引用是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属性或成员时，称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和对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之间是关联关系。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强整体与部分关系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组合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弱整体与部分关系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聚合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294840"/>
            <a:ext cx="328788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类的实现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494320" y="243000"/>
            <a:ext cx="2611440" cy="42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952560" y="1892160"/>
            <a:ext cx="6807240" cy="1266840"/>
          </a:xfrm>
          <a:prstGeom prst="roundRect">
            <a:avLst>
              <a:gd name="adj" fmla="val 27222"/>
            </a:avLst>
          </a:prstGeom>
          <a:solidFill>
            <a:srgbClr val="f0f1e1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在开发过程中，类的实现是核心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952560" y="3889440"/>
            <a:ext cx="6807240" cy="1342800"/>
          </a:xfrm>
          <a:prstGeom prst="roundRect">
            <a:avLst>
              <a:gd name="adj" fmla="val 27222"/>
            </a:avLst>
          </a:prstGeom>
          <a:solidFill>
            <a:srgbClr val="f0f1e1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在以面向对象风格所编写的系统中，所有的数据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被封装在类的实例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314000" y="2039760"/>
            <a:ext cx="6372360" cy="34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理解面向对象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面向对象的概念 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133984"/>
                </a:solidFill>
                <a:uFillTx/>
                <a:latin typeface="宋体"/>
                <a:ea typeface="宋体"/>
              </a:rPr>
              <a:t>面向对象程序设计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面向对象程序设计中的关键字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28720" y="3211200"/>
            <a:ext cx="353376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抽象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宋体"/>
                <a:ea typeface="宋体"/>
              </a:rPr>
              <a:t>封装</a:t>
            </a:r>
            <a:r>
              <a:rPr b="1" lang="en-US" sz="2800" spc="-1" strike="noStrike">
                <a:solidFill>
                  <a:srgbClr val="133984"/>
                </a:solidFill>
                <a:latin typeface="宋体"/>
                <a:ea typeface="宋体"/>
              </a:rPr>
              <a:t>,</a:t>
            </a:r>
            <a:r>
              <a:rPr b="1" lang="en-US" sz="2800" spc="-1" strike="noStrike">
                <a:solidFill>
                  <a:srgbClr val="133984"/>
                </a:solidFill>
                <a:latin typeface="宋体"/>
                <a:ea typeface="宋体"/>
              </a:rPr>
              <a:t>继承</a:t>
            </a:r>
            <a:r>
              <a:rPr b="1" lang="en-US" sz="2800" spc="-1" strike="noStrike">
                <a:solidFill>
                  <a:srgbClr val="133984"/>
                </a:solidFill>
                <a:latin typeface="宋体"/>
                <a:ea typeface="宋体"/>
              </a:rPr>
              <a:t>,</a:t>
            </a:r>
            <a:r>
              <a:rPr b="1" lang="en-US" sz="2800" spc="-1" strike="noStrike">
                <a:solidFill>
                  <a:srgbClr val="133984"/>
                </a:solidFill>
                <a:latin typeface="宋体"/>
                <a:ea typeface="宋体"/>
              </a:rPr>
              <a:t>多态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类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类成员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770040" y="1357200"/>
            <a:ext cx="7192800" cy="13096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OOA 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Analysis</a:t>
            </a:r>
            <a:br>
              <a:rPr sz="2800"/>
            </a:b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面向对象程序设计</a:t>
            </a:r>
            <a:br>
              <a:rPr sz="2800"/>
            </a:b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OOD Object Oriented Design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OOP 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Programming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5378400" y="22896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面向对象程序设计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继承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以后讲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代码重用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易于维护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便于扩展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多态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以后讲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同一对象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类或方法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接口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),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在不同的情形下有不同的表现和实现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774800" y="2410920"/>
            <a:ext cx="578664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声明类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创建对象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自定义类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520" y="372600"/>
            <a:ext cx="4978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类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封装的根本实现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378400" y="412200"/>
            <a:ext cx="27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2520" y="372600"/>
            <a:ext cx="4978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声明类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1038240" y="1778040"/>
            <a:ext cx="6567480" cy="387828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类是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#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中功能最为强大的数据类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类是使用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lass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关键字来定义的，语法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访问级别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lass 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类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//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字段、属性、方法、事件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560" y="1980720"/>
            <a:ext cx="7524720" cy="32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33984"/>
                </a:solidFill>
                <a:latin typeface="Arial"/>
              </a:rPr>
              <a:t>面向对象</a:t>
            </a:r>
            <a:br>
              <a:rPr sz="8000"/>
            </a:br>
            <a:endParaRPr b="1" lang="en-US" sz="80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2880" y="372600"/>
            <a:ext cx="696600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创建对象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类的实例是对象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422360" y="2122560"/>
            <a:ext cx="520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通过使用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new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关键字，后跟对象所基于的类的名称，可以创建对象，如下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ustomer object1 = new Custome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2520" y="372600"/>
            <a:ext cx="4978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自定义类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1077840" y="1662120"/>
            <a:ext cx="6835680" cy="422424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自定义一个类，该类包含一个字段、一个方法和一个称为构造函数的特殊方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ublic class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ublic string 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ublic Perso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name = "unknown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public void SetName(string newN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name = new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33400" y="1376280"/>
            <a:ext cx="549288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字段 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Filed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属性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	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Property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事件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	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Event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索引器 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	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Indexer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方法 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	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Function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72520" y="294840"/>
            <a:ext cx="4978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类成员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992920" y="228960"/>
            <a:ext cx="21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类成员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2520" y="372600"/>
            <a:ext cx="4978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字段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成员变量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1077840" y="3390840"/>
            <a:ext cx="6526440" cy="116064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在类块中声明字段的方式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字段的访问级别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字段的类型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字段的名称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076400" y="1969920"/>
            <a:ext cx="6527880" cy="88272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字段”是包含在类或结构中的对象或值。字段使类和结构可以封装数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520" y="372600"/>
            <a:ext cx="4978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属性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grpSp>
        <p:nvGrpSpPr>
          <p:cNvPr id="140" name="Group 8"/>
          <p:cNvGrpSpPr/>
          <p:nvPr/>
        </p:nvGrpSpPr>
        <p:grpSpPr>
          <a:xfrm>
            <a:off x="1346040" y="1662120"/>
            <a:ext cx="6240600" cy="4224240"/>
            <a:chOff x="1346040" y="1662120"/>
            <a:chExt cx="6240600" cy="4224240"/>
          </a:xfrm>
        </p:grpSpPr>
        <p:sp>
          <p:nvSpPr>
            <p:cNvPr id="141" name="AutoShape 6"/>
            <p:cNvSpPr/>
            <p:nvPr/>
          </p:nvSpPr>
          <p:spPr>
            <a:xfrm>
              <a:off x="1346040" y="1662120"/>
              <a:ext cx="6240600" cy="422424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ade2a1"/>
                </a:gs>
                <a:gs pos="100000">
                  <a:srgbClr val="e8f6e4"/>
                </a:gs>
              </a:gsLst>
              <a:lin ang="2700000"/>
            </a:gra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7"/>
            <p:cNvSpPr/>
            <p:nvPr/>
          </p:nvSpPr>
          <p:spPr>
            <a:xfrm>
              <a:off x="1576440" y="2400480"/>
              <a:ext cx="5761080" cy="274320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eefd7"/>
                </a:gs>
                <a:gs pos="100000">
                  <a:srgbClr val="d5d69c"/>
                </a:gs>
              </a:gsLst>
              <a:lin ang="2700000"/>
            </a:gra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属性是这样的类成员：它们提供灵活的机制来读取、编写或计算私有字段的值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33984"/>
              </a:solidFill>
              <a:latin typeface="Arial"/>
              <a:ea typeface="宋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属性有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只读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只有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get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只写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只有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set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可读可写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get,set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都有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不允许不可读也不可写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2520" y="372600"/>
            <a:ext cx="569916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事件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与’委托’详细讲解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1116000" y="1778040"/>
            <a:ext cx="6462720" cy="3724200"/>
            <a:chOff x="1116000" y="1778040"/>
            <a:chExt cx="6462720" cy="3724200"/>
          </a:xfrm>
        </p:grpSpPr>
        <p:sp>
          <p:nvSpPr>
            <p:cNvPr id="147" name="AutoShape 6"/>
            <p:cNvSpPr/>
            <p:nvPr/>
          </p:nvSpPr>
          <p:spPr>
            <a:xfrm>
              <a:off x="1116000" y="1778040"/>
              <a:ext cx="6462720" cy="3724200"/>
            </a:xfrm>
            <a:prstGeom prst="roundRect">
              <a:avLst>
                <a:gd name="adj" fmla="val 15134"/>
              </a:avLst>
            </a:prstGeom>
            <a:solidFill>
              <a:srgbClr val="b3c8d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1619280" y="2476440"/>
              <a:ext cx="5371920" cy="232416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eefd7"/>
                </a:gs>
                <a:gs pos="100000">
                  <a:srgbClr val="d5d69c"/>
                </a:gs>
              </a:gsLst>
              <a:lin ang="2700000"/>
            </a:gra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基于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Windows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的应用程序和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Web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应用程序都是基于事件驱动的应用程序，即根据事件来执行代码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索引器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indexer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895320" y="2162160"/>
          <a:ext cx="7084800" cy="4144680"/>
        </p:xfrm>
        <a:graphic>
          <a:graphicData uri="http://schemas.openxmlformats.org/drawingml/2006/table">
            <a:tbl>
              <a:tblPr/>
              <a:tblGrid>
                <a:gridCol w="3376080"/>
                <a:gridCol w="3708720"/>
              </a:tblGrid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黑体"/>
                          <a:ea typeface="Times New Roman"/>
                        </a:rPr>
                        <a:t>属性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黑体"/>
                          <a:ea typeface="Times New Roman"/>
                        </a:rPr>
                        <a:t>索引器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允许调用方法，如同它们是公共数据成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允许调用对象上的方法，如同对象是一个数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可通过简单的名称进行访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可通过索引器进行访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可以是静态成员或实例成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必须是实例成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属性的 </a:t>
                      </a:r>
                      <a:r>
                        <a:rPr b="1" lang="en-US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get </a:t>
                      </a: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访问函数没有参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索引器的 </a:t>
                      </a:r>
                      <a:r>
                        <a:rPr b="1" lang="en-US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get </a:t>
                      </a: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访问函数具有与索引器相同的形参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属性的 </a:t>
                      </a:r>
                      <a:r>
                        <a:rPr b="1" lang="en-US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set </a:t>
                      </a: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访问函数包含隐式 </a:t>
                      </a:r>
                      <a:r>
                        <a:rPr b="1" lang="en-US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value </a:t>
                      </a: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参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除了 </a:t>
                      </a:r>
                      <a:r>
                        <a:rPr b="1" lang="en-US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value </a:t>
                      </a: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参数外，索引器的 </a:t>
                      </a:r>
                      <a:r>
                        <a:rPr b="1" lang="en-US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set </a:t>
                      </a:r>
                      <a:r>
                        <a:rPr b="1" lang="zh-CN" sz="20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访问函数还具有与索引器相同的形参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AutoShape 84"/>
          <p:cNvSpPr/>
          <p:nvPr/>
        </p:nvSpPr>
        <p:spPr>
          <a:xfrm>
            <a:off x="1076400" y="1219320"/>
            <a:ext cx="6696000" cy="7887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索引器就是一类特殊的属性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允许将对象当作数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33984"/>
              </a:solidFill>
              <a:latin typeface="Arial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客户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姓名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订单总金额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只读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this[int]-&gt;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订单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订单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金额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(int,&gt;0)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构造函数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对于要创建的实例进行初始化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一些特殊的性质 ：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构造函数的名字必须与类同名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构造函数没有返回类型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它可以带参数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也可以不带参数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声明类对象时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系统自动调用构造函数，构造函数不能被显式调用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构造函数可以重载，从而提供初始化类对象的不同方法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若在声明时未定义构造函数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系统会自动生成默认的构造函数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此时构造函数的函数体为空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tIns="54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33984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53880"/>
            <a:ext cx="739116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110000"/>
              </a:lnSpc>
              <a:spcBef>
                <a:spcPts val="799"/>
              </a:spcBef>
              <a:buSzPct val="1079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33984"/>
                </a:solidFill>
                <a:latin typeface="Arial"/>
              </a:rPr>
              <a:t>理解面向对象的基本概念：对象、类、对象的属性、关系等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799"/>
              </a:spcBef>
              <a:buSzPct val="1079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33984"/>
                </a:solidFill>
                <a:latin typeface="Arial"/>
              </a:rPr>
              <a:t>理解什么是抽象以及如何将现实世界中的实体抽象成类和对象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799"/>
              </a:spcBef>
              <a:buSzPct val="1079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33984"/>
                </a:solidFill>
                <a:latin typeface="Arial"/>
              </a:rPr>
              <a:t>创建和使用类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799"/>
              </a:spcBef>
              <a:buSzPct val="10793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33984"/>
                </a:solidFill>
                <a:latin typeface="Arial"/>
              </a:rPr>
              <a:t>理解类成员的概念，并能够自定义合适的类成员 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192320" y="1660680"/>
            <a:ext cx="633708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静态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构造函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用于对类本身进行初始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静态构造函数没有参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静态构造函数没有可访问性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静态构造函数由系统调用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不能显式调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静态构造函数最多只调用一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1199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静态构造函数在第一次调用类的方法或成员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实例或静态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自动调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68240" y="1333440"/>
            <a:ext cx="691848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Main()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方法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Main()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方法是程序的入口点，程序控制在该方法中开始和结束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该方法在类或结构的内部声明。它必须是静态方法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它可以具有 </a:t>
            </a:r>
            <a:r>
              <a:rPr b="1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void 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或 </a:t>
            </a:r>
            <a:r>
              <a:rPr b="1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int 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返回类型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声明 </a:t>
            </a:r>
            <a:r>
              <a:rPr b="1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Main()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方法时既可以使用参数，也可以不使用参数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参数可以作为从零开始索引的命令行参数来读取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与 </a:t>
            </a:r>
            <a:r>
              <a:rPr b="1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C 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和 </a:t>
            </a:r>
            <a:r>
              <a:rPr b="1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C++ 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不同，程序的名称不会被当做第一个命令行参数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7"/>
          <p:cNvSpPr/>
          <p:nvPr/>
        </p:nvSpPr>
        <p:spPr>
          <a:xfrm>
            <a:off x="1000080" y="1469880"/>
            <a:ext cx="6835680" cy="440244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方法重载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overload 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多态”方法的多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#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中，同一个类中的两个或两个以上的方法可以有同一个名字，只要它们的参数声明不同即可。在这种情况下，该方法就被称为重载，这个过程称为方法重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同一个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方法名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参数列表必须不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个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类型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,ref,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反面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不同类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可以有同名同参数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返回类型不会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参数名不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33984"/>
              </a:solidFill>
              <a:latin typeface="Arial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349"/>
              </a:spcBef>
              <a:buSzPct val="1234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圆：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类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圆心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点类型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半径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属性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面积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只读属性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构造函数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互相调用最后一个版本的构造函数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):</a:t>
            </a: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int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半径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int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半径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点 圆心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int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半径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,int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圆心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X,int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圆心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提供方法</a:t>
            </a: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统计已创建多少个圆的实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比较与另一个点的位置关系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Math.Sqrt,Math.Pow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2826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X,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2826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49"/>
              </a:spcBef>
              <a:buSzPct val="12348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位置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:(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枚举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外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上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内</a:t>
            </a: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49"/>
              </a:spcBef>
              <a:buSzPct val="12348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点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:(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结构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X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坐标</a:t>
            </a: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Y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坐标</a:t>
            </a: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33984"/>
                </a:solidFill>
                <a:latin typeface="Arial"/>
                <a:ea typeface="宋体"/>
              </a:rPr>
              <a:t>提供构造函数</a:t>
            </a:r>
            <a:r>
              <a:rPr b="0" lang="en-US" sz="1200" spc="-1" strike="noStrike">
                <a:solidFill>
                  <a:srgbClr val="133984"/>
                </a:solidFill>
                <a:latin typeface="Arial"/>
                <a:ea typeface="宋体"/>
              </a:rPr>
              <a:t>(int,int)</a:t>
            </a: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00"/>
              </a:spcBef>
              <a:buSzPct val="1236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33984"/>
              </a:solidFill>
              <a:latin typeface="Arial"/>
              <a:ea typeface="宋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00"/>
              </a:spcBef>
              <a:buSzPct val="1236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33984"/>
                </a:solidFill>
                <a:latin typeface="Arial"/>
                <a:ea typeface="宋体"/>
              </a:rPr>
              <a:t>订单</a:t>
            </a:r>
            <a:endParaRPr b="0" lang="en-US" sz="16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订单编号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自增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属性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金额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属性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&gt;0)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构造函数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t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金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00"/>
              </a:spcBef>
              <a:buSzPct val="1236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33984"/>
                </a:solidFill>
                <a:latin typeface="Arial"/>
                <a:ea typeface="宋体"/>
              </a:rPr>
              <a:t>客户</a:t>
            </a:r>
            <a:endParaRPr b="0" lang="en-US" sz="16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客户名称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订单总金额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下新的订单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(int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金额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),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返回订单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竞争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客户 另一个客户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  <a:ea typeface="宋体"/>
              </a:rPr>
              <a:t>):bool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方的订单总金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的订单总金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  <a:ea typeface="宋体"/>
              </a:rPr>
              <a:t>构造函数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33984"/>
              </a:solidFill>
              <a:latin typeface="Arial"/>
              <a:ea typeface="宋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桌子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长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宽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高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体积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面积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方法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构造函数重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比较体积大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桌子 另一个桌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314000" y="2120400"/>
            <a:ext cx="637236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理解面向对象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面向对象的概念 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面向对象程序设计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133984"/>
                </a:solidFill>
                <a:uFillTx/>
                <a:latin typeface="宋体"/>
                <a:ea typeface="宋体"/>
              </a:rPr>
              <a:t>面向对象程序设计中的关键字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63480" y="1914480"/>
            <a:ext cx="3857400" cy="35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可访问性修饰符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宋体"/>
                <a:ea typeface="宋体"/>
              </a:rPr>
              <a:t>static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const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readonly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this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272880" y="294840"/>
            <a:ext cx="859968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宋体"/>
                <a:ea typeface="宋体"/>
              </a:rPr>
              <a:t>面向对象程序设计中的关键字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宋体"/>
                <a:ea typeface="宋体"/>
              </a:rPr>
              <a:t>可访问性修饰符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buClr>
                <a:srgbClr val="133984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public:  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对任何类和成员都公开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, 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无限制访问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99"/>
              </a:spcBef>
              <a:buClr>
                <a:srgbClr val="133984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protected: 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仅仅对该类以及该类的派生类公开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99"/>
              </a:spcBef>
              <a:buClr>
                <a:srgbClr val="133984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private: 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仅仅对该类公开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99"/>
              </a:spcBef>
              <a:buClr>
                <a:srgbClr val="133984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internal: 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只能值包含该类的程序集中访问该类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99"/>
              </a:spcBef>
              <a:buClr>
                <a:srgbClr val="133984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protected internal: 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只能在本类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派生类或者包含该类的程序集中访问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13398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</p:txBody>
      </p:sp>
      <p:pic>
        <p:nvPicPr>
          <p:cNvPr id="169" name="Picture 2" descr="http://images.cnblogs.com/cnblogs_com/net123/112657/r_%e8%ae%bf%e9%97%ae%e4%bf%ae%e9%a5%b0%e7%ac%a6.jpg"/>
          <p:cNvPicPr/>
          <p:nvPr/>
        </p:nvPicPr>
        <p:blipFill>
          <a:blip r:embed="rId2"/>
          <a:stretch/>
        </p:blipFill>
        <p:spPr>
          <a:xfrm>
            <a:off x="2095560" y="3200400"/>
            <a:ext cx="51530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宋体"/>
                <a:ea typeface="宋体"/>
              </a:rPr>
              <a:t>可访问性修饰符</a:t>
            </a:r>
            <a:r>
              <a:rPr b="1" lang="en-US" sz="2800" spc="-1" strike="noStrike">
                <a:solidFill>
                  <a:srgbClr val="133984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133984"/>
                </a:solidFill>
                <a:latin typeface="宋体"/>
                <a:ea typeface="宋体"/>
              </a:rPr>
              <a:t>续</a:t>
            </a:r>
            <a:r>
              <a:rPr b="1" lang="en-US" sz="2800" spc="-1" strike="noStrike">
                <a:solidFill>
                  <a:srgbClr val="133984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namespace –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默认是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public,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不允许定义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public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类 默认是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interna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类成员 默认是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private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struct </a:t>
            </a:r>
            <a:r>
              <a:rPr b="0" lang="en-US" sz="2800" spc="-1" strike="noStrike">
                <a:solidFill>
                  <a:srgbClr val="133984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值类型</a:t>
            </a:r>
            <a:r>
              <a:rPr b="0" lang="zh-CN" sz="2800" spc="-1" strike="noStrike">
                <a:solidFill>
                  <a:srgbClr val="133984"/>
                </a:solidFill>
                <a:latin typeface="Wingdings"/>
                <a:ea typeface="Wingdings"/>
              </a:rPr>
              <a:t>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与继承无关</a:t>
            </a:r>
            <a:r>
              <a:rPr b="0" lang="zh-CN" sz="2800" spc="-1" strike="noStrike">
                <a:solidFill>
                  <a:srgbClr val="133984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protected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有关的 对 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struct 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不适用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interface,enum </a:t>
            </a:r>
            <a:r>
              <a:rPr b="0" lang="en-US" sz="2800" spc="-1" strike="noStrike">
                <a:solidFill>
                  <a:srgbClr val="133984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public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对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interface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中的成员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可访问性无效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不需要定义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314000" y="1447560"/>
            <a:ext cx="637236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133984"/>
                </a:solidFill>
                <a:uFillTx/>
                <a:latin typeface="宋体"/>
                <a:ea typeface="宋体"/>
              </a:rPr>
              <a:t>理解面向对象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面向对象的概念 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面向对象程序设计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面向对象程序设计中的关键字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static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关键字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静态的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不需要创建类的实例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就可以直接通过类名来访问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static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成员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static 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方法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static 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构造函数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const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关键字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常量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特点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必须在定义的时候赋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旦在写代码时赋过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以后在运行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允许再修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隐含着是一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修饰值类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定义一个引用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2826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用类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K =”abc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2826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其他引用类型</a:t>
            </a: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必须使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赋初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可以修饰局部变量 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局部变量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不能再修改值 </a:t>
            </a:r>
            <a:r>
              <a:rPr b="0" lang="zh-CN" sz="2400" spc="-1" strike="noStrike">
                <a:solidFill>
                  <a:srgbClr val="133984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稀有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总结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在写代码时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就定义好的一个常量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值类型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)(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编译的时候固定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readonly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关键字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运行时动态赋值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只读的一个常量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特点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以是任何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赋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2826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定义时就先赋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9000" indent="2826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只能在构造函数中赋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能修饰局部变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带隐含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强制要求必须初始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总结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运行时只读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this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关键字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代表当前这个实例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使用只有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2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个领域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在类内部访问自己类的成员</a:t>
            </a: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员变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函数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事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调用自己类的另一个构造函数</a:t>
            </a: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好处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只需要访问自己的成员时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使用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this,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过滤掉不相关的其他提示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注意</a:t>
            </a:r>
            <a:r>
              <a:rPr b="0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不仅可以访问自己的成员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也可访问父类的成员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不建议使用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this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访问父类成员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应使用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base: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后续讲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this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指向当前这个实例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所以只能访问实例的成员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0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不能访问静态成员</a:t>
            </a: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451"/>
              </a:spcBef>
              <a:buSzPct val="1235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314000" y="2120400"/>
            <a:ext cx="637236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33984"/>
                </a:solidFill>
                <a:latin typeface="宋体"/>
                <a:ea typeface="宋体"/>
              </a:rPr>
              <a:t>小结</a:t>
            </a:r>
            <a:endParaRPr b="0" lang="en-US" sz="60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90040" y="1623960"/>
            <a:ext cx="7473960" cy="47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2" marL="853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476600" y="471600"/>
            <a:ext cx="35895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990720" y="1508040"/>
            <a:ext cx="6845040" cy="436428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本章主要介绍了面向对象的基本概念，面向对象以抽象和封装的方式将事物划分成类，用对象实例化的操作来解决问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0" y="179280"/>
            <a:ext cx="342432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小结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构造函数重载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每个类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个构造函数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649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书</a:t>
            </a:r>
            <a:r>
              <a:rPr b="0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133984"/>
                </a:solidFill>
                <a:latin typeface="Arial"/>
                <a:ea typeface="宋体"/>
              </a:rPr>
              <a:t>价格</a:t>
            </a:r>
            <a:endParaRPr b="0" lang="en-US" sz="22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133984"/>
                </a:solidFill>
                <a:latin typeface="Arial"/>
                <a:ea typeface="宋体"/>
              </a:rPr>
              <a:t>书名</a:t>
            </a:r>
            <a:endParaRPr b="0" lang="en-US" sz="22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133984"/>
                </a:solidFill>
                <a:latin typeface="Arial"/>
                <a:ea typeface="宋体"/>
              </a:rPr>
              <a:t>显示</a:t>
            </a:r>
            <a:r>
              <a:rPr b="0" lang="en-US" sz="2200" spc="-1" strike="noStrike">
                <a:solidFill>
                  <a:srgbClr val="133984"/>
                </a:solidFill>
                <a:latin typeface="Arial"/>
                <a:ea typeface="宋体"/>
              </a:rPr>
              <a:t>()</a:t>
            </a:r>
            <a:endParaRPr b="0" lang="en-US" sz="22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133984"/>
                </a:solidFill>
                <a:latin typeface="Arial"/>
                <a:ea typeface="宋体"/>
              </a:rPr>
              <a:t>计算总价</a:t>
            </a:r>
            <a:r>
              <a:rPr b="0" lang="en-US" sz="2200" spc="-1" strike="noStrike">
                <a:solidFill>
                  <a:srgbClr val="133984"/>
                </a:solidFill>
                <a:latin typeface="Arial"/>
                <a:ea typeface="宋体"/>
              </a:rPr>
              <a:t>(int </a:t>
            </a:r>
            <a:r>
              <a:rPr b="0" lang="en-US" sz="2200" spc="-1" strike="noStrike">
                <a:solidFill>
                  <a:srgbClr val="133984"/>
                </a:solidFill>
                <a:latin typeface="Arial"/>
                <a:ea typeface="宋体"/>
              </a:rPr>
              <a:t>数量</a:t>
            </a:r>
            <a:r>
              <a:rPr b="0" lang="en-US" sz="22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49"/>
              </a:spcBef>
              <a:buSzPct val="1233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订单</a:t>
            </a:r>
            <a:r>
              <a:rPr b="0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+</a:t>
            </a:r>
            <a:r>
              <a:rPr b="0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客户类</a:t>
            </a: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133984"/>
                </a:solidFill>
                <a:latin typeface="Arial"/>
                <a:ea typeface="宋体"/>
              </a:rPr>
              <a:t>订单：</a:t>
            </a:r>
            <a:endParaRPr b="0" lang="en-US" sz="22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编号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订购的客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客户类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显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“张三客户，下了订单，编号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xxxxx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49"/>
              </a:spcBef>
              <a:buSzPct val="1233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客户</a:t>
            </a:r>
            <a:r>
              <a:rPr b="0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133984"/>
                </a:solidFill>
                <a:latin typeface="Arial"/>
                <a:ea typeface="宋体"/>
              </a:rPr>
              <a:t>客户名称</a:t>
            </a:r>
            <a:endParaRPr b="0" lang="en-US" sz="22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07800"/>
            <a:ext cx="2765520" cy="4716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理解面向对象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1076400" y="1393920"/>
            <a:ext cx="6167520" cy="122868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什么是面向对象？为什么需要面向对象呢？要解决这些问题，我们首先看一个简单的例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5494320" y="243000"/>
            <a:ext cx="2611440" cy="42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0"/>
          <p:cNvGrpSpPr/>
          <p:nvPr/>
        </p:nvGrpSpPr>
        <p:grpSpPr>
          <a:xfrm>
            <a:off x="1076400" y="3006720"/>
            <a:ext cx="6567480" cy="2803680"/>
            <a:chOff x="1076400" y="3006720"/>
            <a:chExt cx="6567480" cy="2803680"/>
          </a:xfrm>
        </p:grpSpPr>
        <p:sp>
          <p:nvSpPr>
            <p:cNvPr id="62" name="AutoShape 15"/>
            <p:cNvSpPr/>
            <p:nvPr/>
          </p:nvSpPr>
          <p:spPr>
            <a:xfrm>
              <a:off x="3273480" y="4556160"/>
              <a:ext cx="1949400" cy="1254240"/>
            </a:xfrm>
            <a:custGeom>
              <a:avLst/>
              <a:gdLst>
                <a:gd name="textAreaLeft" fmla="*/ 406440 w 1949400"/>
                <a:gd name="textAreaRight" fmla="*/ 1542960 w 1949400"/>
                <a:gd name="textAreaTop" fmla="*/ 261720 h 1254240"/>
                <a:gd name="textAreaBottom" fmla="*/ 992520 h 125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16"/>
            <p:cNvSpPr/>
            <p:nvPr/>
          </p:nvSpPr>
          <p:spPr>
            <a:xfrm>
              <a:off x="3494160" y="3089160"/>
              <a:ext cx="1670040" cy="1467000"/>
            </a:xfrm>
            <a:prstGeom prst="downArrowCallout">
              <a:avLst>
                <a:gd name="adj1" fmla="val 32026"/>
                <a:gd name="adj2" fmla="val 32018"/>
                <a:gd name="adj3" fmla="val 16667"/>
                <a:gd name="adj4" fmla="val 6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7"/>
            <p:cNvSpPr/>
            <p:nvPr/>
          </p:nvSpPr>
          <p:spPr>
            <a:xfrm>
              <a:off x="1076400" y="4834080"/>
              <a:ext cx="1947960" cy="761760"/>
            </a:xfrm>
            <a:custGeom>
              <a:avLst/>
              <a:gdLst>
                <a:gd name="textAreaLeft" fmla="*/ 406440 w 1947960"/>
                <a:gd name="textAreaRight" fmla="*/ 1541520 w 1947960"/>
                <a:gd name="textAreaTop" fmla="*/ 158760 h 761760"/>
                <a:gd name="textAreaBottom" fmla="*/ 60300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18"/>
            <p:cNvSpPr/>
            <p:nvPr/>
          </p:nvSpPr>
          <p:spPr>
            <a:xfrm>
              <a:off x="1193760" y="3089160"/>
              <a:ext cx="1670040" cy="1467000"/>
            </a:xfrm>
            <a:prstGeom prst="downArrowCallout">
              <a:avLst>
                <a:gd name="adj1" fmla="val 32026"/>
                <a:gd name="adj2" fmla="val 32018"/>
                <a:gd name="adj3" fmla="val 16667"/>
                <a:gd name="adj4" fmla="val 6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9"/>
            <p:cNvSpPr/>
            <p:nvPr/>
          </p:nvSpPr>
          <p:spPr>
            <a:xfrm>
              <a:off x="5573880" y="3006720"/>
              <a:ext cx="1670040" cy="1468440"/>
            </a:xfrm>
            <a:prstGeom prst="downArrowCallout">
              <a:avLst>
                <a:gd name="adj1" fmla="val 32026"/>
                <a:gd name="adj2" fmla="val 32023"/>
                <a:gd name="adj3" fmla="val 16667"/>
                <a:gd name="adj4" fmla="val 6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20"/>
            <p:cNvSpPr/>
            <p:nvPr/>
          </p:nvSpPr>
          <p:spPr>
            <a:xfrm>
              <a:off x="5851440" y="4788000"/>
              <a:ext cx="938160" cy="1022400"/>
            </a:xfrm>
            <a:custGeom>
              <a:avLst/>
              <a:gdLst>
                <a:gd name="textAreaLeft" fmla="*/ 195120 w 938160"/>
                <a:gd name="textAreaRight" fmla="*/ 743040 w 938160"/>
                <a:gd name="textAreaTop" fmla="*/ 212760 h 1022400"/>
                <a:gd name="textAreaBottom" fmla="*/ 809640 h 10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1"/>
            <p:cNvSpPr/>
            <p:nvPr/>
          </p:nvSpPr>
          <p:spPr>
            <a:xfrm>
              <a:off x="1484280" y="4888080"/>
              <a:ext cx="17431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号水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对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2"/>
            <p:cNvSpPr/>
            <p:nvPr/>
          </p:nvSpPr>
          <p:spPr>
            <a:xfrm>
              <a:off x="1407960" y="3349800"/>
              <a:ext cx="17431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号加水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对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23"/>
            <p:cNvSpPr/>
            <p:nvPr/>
          </p:nvSpPr>
          <p:spPr>
            <a:xfrm>
              <a:off x="3673440" y="4811760"/>
              <a:ext cx="17431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号水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对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4"/>
            <p:cNvSpPr/>
            <p:nvPr/>
          </p:nvSpPr>
          <p:spPr>
            <a:xfrm>
              <a:off x="3787920" y="3365640"/>
              <a:ext cx="17445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号加水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对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5"/>
            <p:cNvSpPr/>
            <p:nvPr/>
          </p:nvSpPr>
          <p:spPr>
            <a:xfrm>
              <a:off x="5900760" y="4950000"/>
              <a:ext cx="17431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号水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对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6"/>
            <p:cNvSpPr/>
            <p:nvPr/>
          </p:nvSpPr>
          <p:spPr>
            <a:xfrm>
              <a:off x="5786280" y="3300480"/>
              <a:ext cx="17431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号加水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对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4"/>
          <p:cNvSpPr/>
          <p:nvPr/>
        </p:nvSpPr>
        <p:spPr>
          <a:xfrm>
            <a:off x="6240960" y="399960"/>
            <a:ext cx="1467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理解面向对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3"/>
          <p:cNvSpPr/>
          <p:nvPr/>
        </p:nvSpPr>
        <p:spPr>
          <a:xfrm>
            <a:off x="1181160" y="3214800"/>
            <a:ext cx="6505560" cy="2995560"/>
          </a:xfrm>
          <a:prstGeom prst="rect">
            <a:avLst/>
          </a:prstGeom>
          <a:gradFill rotWithShape="0">
            <a:gsLst>
              <a:gs pos="0">
                <a:srgbClr val="edf7e1"/>
              </a:gs>
              <a:gs pos="100000">
                <a:srgbClr val="a6d86e"/>
              </a:gs>
            </a:gsLst>
            <a:lin ang="2700000"/>
          </a:gradFill>
          <a:ln w="9360">
            <a:solidFill>
              <a:srgbClr val="4d4d4d"/>
            </a:solidFill>
            <a:round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961920" y="1393560"/>
            <a:ext cx="6973920" cy="20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面向对象思想如此考虑：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场景中所有角色抽象起来总共有两类：加水器和水箱</a:t>
            </a: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水箱空，触发加水器加水</a:t>
            </a:r>
            <a:r>
              <a:rPr b="0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水箱的体积决定加水器加多少水</a:t>
            </a: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将加水器和水箱具体化成</a:t>
            </a:r>
            <a:r>
              <a:rPr b="1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号、</a:t>
            </a:r>
            <a:r>
              <a:rPr b="1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号、</a:t>
            </a:r>
            <a:r>
              <a:rPr b="1" lang="en-US" sz="1800" spc="-1" strike="noStrike">
                <a:solidFill>
                  <a:srgbClr val="133984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133984"/>
                </a:solidFill>
                <a:latin typeface="Arial"/>
                <a:ea typeface="宋体"/>
              </a:rPr>
              <a:t>号装置</a:t>
            </a: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-360" y="372600"/>
            <a:ext cx="48848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33984"/>
                </a:solidFill>
                <a:latin typeface="Arial"/>
                <a:ea typeface="宋体"/>
              </a:rPr>
              <a:t>理解面向对象（续）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240960" y="399960"/>
            <a:ext cx="1467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理解面向对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wn Arrow Callout 14"/>
          <p:cNvSpPr/>
          <p:nvPr/>
        </p:nvSpPr>
        <p:spPr>
          <a:xfrm>
            <a:off x="3228840" y="3335400"/>
            <a:ext cx="2171880" cy="1192320"/>
          </a:xfrm>
          <a:prstGeom prst="downArrowCallout">
            <a:avLst>
              <a:gd name="adj1" fmla="val 24998"/>
              <a:gd name="adj2" fmla="val 24996"/>
              <a:gd name="adj3" fmla="val 25000"/>
              <a:gd name="adj4" fmla="val 6497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round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加水器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rapezoid 15"/>
          <p:cNvSpPr/>
          <p:nvPr/>
        </p:nvSpPr>
        <p:spPr>
          <a:xfrm rot="10800000">
            <a:off x="3234960" y="4695840"/>
            <a:ext cx="2165400" cy="884160"/>
          </a:xfrm>
          <a:custGeom>
            <a:avLst/>
            <a:gdLst>
              <a:gd name="textAreaLeft" fmla="*/ 384480 w 2165400"/>
              <a:gd name="textAreaRight" fmla="*/ 1780920 w 2165400"/>
              <a:gd name="textAreaTop" fmla="*/ 156960 h 884160"/>
              <a:gd name="textAreaBottom" fmla="*/ 884520 h 884160"/>
            </a:gdLst>
            <a:ahLst/>
            <a:rect l="textAreaLeft" t="textAreaTop" r="textAreaRight" b="textAreaBottom"/>
            <a:pathLst>
              <a:path w="2165350" h="1044575">
                <a:moveTo>
                  <a:pt x="0" y="1044575"/>
                </a:moveTo>
                <a:lnTo>
                  <a:pt x="576835" y="0"/>
                </a:lnTo>
                <a:lnTo>
                  <a:pt x="1588515" y="0"/>
                </a:lnTo>
                <a:lnTo>
                  <a:pt x="2165350" y="1044575"/>
                </a:lnTo>
                <a:close/>
              </a:path>
            </a:pathLst>
          </a:cu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13500000"/>
          </a:gradFill>
          <a:ln w="9360">
            <a:solidFill>
              <a:srgbClr val="4d4d4d"/>
            </a:solidFill>
            <a:round/>
          </a:ln>
          <a:effectLst>
            <a:outerShdw dist="36147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7"/>
          <p:cNvSpPr/>
          <p:nvPr/>
        </p:nvSpPr>
        <p:spPr>
          <a:xfrm>
            <a:off x="3457440" y="492768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水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own Arrow 18"/>
          <p:cNvSpPr/>
          <p:nvPr/>
        </p:nvSpPr>
        <p:spPr>
          <a:xfrm>
            <a:off x="2657520" y="4265640"/>
            <a:ext cx="619200" cy="64944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3737"/>
          </a:solidFill>
          <a:ln w="9360">
            <a:solidFill>
              <a:srgbClr val="4d4d4d"/>
            </a:solidFill>
            <a:round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1378080" y="4235400"/>
            <a:ext cx="1427040" cy="312840"/>
          </a:xfrm>
          <a:prstGeom prst="rect">
            <a:avLst/>
          </a:prstGeom>
          <a:gradFill rotWithShape="0">
            <a:gsLst>
              <a:gs pos="0">
                <a:srgbClr val="b8d7ff"/>
              </a:gs>
              <a:gs pos="100000">
                <a:srgbClr val="eaf3ff"/>
              </a:gs>
            </a:gsLst>
            <a:lin ang="16200000"/>
          </a:gradFill>
          <a:ln w="9360">
            <a:solidFill>
              <a:srgbClr val="88a8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加水方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xplosion 1 20"/>
          <p:cNvSpPr/>
          <p:nvPr/>
        </p:nvSpPr>
        <p:spPr>
          <a:xfrm>
            <a:off x="4702320" y="4695840"/>
            <a:ext cx="1028520" cy="647640"/>
          </a:xfrm>
          <a:prstGeom prst="irregularSeal1">
            <a:avLst/>
          </a:prstGeom>
          <a:gradFill rotWithShape="0">
            <a:gsLst>
              <a:gs pos="0">
                <a:srgbClr val="ff4343"/>
              </a:gs>
              <a:gs pos="100000">
                <a:srgbClr val="ffd1d1"/>
              </a:gs>
            </a:gsLst>
            <a:lin ang="16200000"/>
          </a:gradFill>
          <a:ln w="9360">
            <a:solidFill>
              <a:srgbClr val="88a8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urved Up Arrow 21"/>
          <p:cNvSpPr/>
          <p:nvPr/>
        </p:nvSpPr>
        <p:spPr>
          <a:xfrm rot="16200000">
            <a:off x="5101200" y="4102560"/>
            <a:ext cx="1257480" cy="645840"/>
          </a:xfrm>
          <a:custGeom>
            <a:avLst/>
            <a:gdLst>
              <a:gd name="textAreaLeft" fmla="*/ 253800 w 1257480"/>
              <a:gd name="textAreaRight" fmla="*/ 923040 w 1257480"/>
              <a:gd name="textAreaTop" fmla="*/ 86400 h 645840"/>
              <a:gd name="textAreaBottom" fmla="*/ 559440 h 64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19" hR="21600" stAng="10800000" swAng="-5400000"/>
                <a:lnTo>
                  <a:pt x="11493" y="21600"/>
                </a:lnTo>
                <a:arcTo wR="8719" hR="21600" stAng="5400000" swAng="-3443703"/>
                <a:lnTo>
                  <a:pt x="21323" y="5400"/>
                </a:lnTo>
                <a:lnTo>
                  <a:pt x="18825" y="0"/>
                </a:lnTo>
                <a:lnTo>
                  <a:pt x="15773" y="5400"/>
                </a:lnTo>
                <a:lnTo>
                  <a:pt x="17161" y="5400"/>
                </a:lnTo>
                <a:arcTo wR="8719" hR="21600" stAng="1956297" swAng="3220422"/>
                <a:lnTo>
                  <a:pt x="10106" y="21325"/>
                </a:lnTo>
                <a:arcTo wR="8719" hR="21600" stAng="5623281" swAng="5176719"/>
                <a:close/>
              </a:path>
              <a:path fill="darkenLess" w="21600" h="21600">
                <a:moveTo>
                  <a:pt x="0" y="0"/>
                </a:moveTo>
                <a:arcTo wR="8719" hR="21600" stAng="10800000" swAng="-5400000"/>
                <a:lnTo>
                  <a:pt x="11493" y="21600"/>
                </a:lnTo>
                <a:arcTo wR="8719" hR="21600" stAng="5400000" swAng="223281"/>
                <a:lnTo>
                  <a:pt x="10106" y="21325"/>
                </a:lnTo>
                <a:arcTo wR="8719" hR="21600" stAng="5623281" swAng="5176719"/>
                <a:close/>
              </a:path>
            </a:pathLst>
          </a:custGeom>
          <a:solidFill>
            <a:srgbClr val="ff3737"/>
          </a:solidFill>
          <a:ln w="9360">
            <a:solidFill>
              <a:srgbClr val="4d4d4d"/>
            </a:solidFill>
            <a:round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2"/>
          <p:cNvSpPr/>
          <p:nvPr/>
        </p:nvSpPr>
        <p:spPr>
          <a:xfrm>
            <a:off x="5730840" y="5021280"/>
            <a:ext cx="1639800" cy="312840"/>
          </a:xfrm>
          <a:prstGeom prst="rect">
            <a:avLst/>
          </a:prstGeom>
          <a:gradFill rotWithShape="0">
            <a:gsLst>
              <a:gs pos="0">
                <a:srgbClr val="b8d7ff"/>
              </a:gs>
              <a:gs pos="100000">
                <a:srgbClr val="eaf3ff"/>
              </a:gs>
            </a:gsLst>
            <a:lin ang="16200000"/>
          </a:gradFill>
          <a:ln w="9360">
            <a:solidFill>
              <a:srgbClr val="88a8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水箱空”事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own Arrow 18"/>
          <p:cNvSpPr/>
          <p:nvPr/>
        </p:nvSpPr>
        <p:spPr>
          <a:xfrm>
            <a:off x="4029120" y="5580000"/>
            <a:ext cx="619200" cy="6303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f3737"/>
          </a:solidFill>
          <a:ln w="9360">
            <a:solidFill>
              <a:srgbClr val="4d4d4d"/>
            </a:solidFill>
            <a:round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2457360" y="5641920"/>
            <a:ext cx="1638360" cy="312840"/>
          </a:xfrm>
          <a:prstGeom prst="rect">
            <a:avLst/>
          </a:prstGeom>
          <a:gradFill rotWithShape="0">
            <a:gsLst>
              <a:gs pos="0">
                <a:srgbClr val="b8d7ff"/>
              </a:gs>
              <a:gs pos="100000">
                <a:srgbClr val="eaf3ff"/>
              </a:gs>
            </a:gsLst>
            <a:lin ang="16200000"/>
          </a:gradFill>
          <a:ln w="9360">
            <a:solidFill>
              <a:srgbClr val="88a8c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 Narrow"/>
                <a:ea typeface="宋体"/>
              </a:rPr>
              <a:t>放水方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61920" y="1393560"/>
            <a:ext cx="697392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用面向对象的程序实现：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类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class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：抽象出水箱类和加水器类。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属性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property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：定义水箱类的属性“体积” 。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方法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function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：定义加水器类的“放水”方法 。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事件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event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：定义“水箱空”事件 。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对象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object(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实例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instance)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：将水箱类实例化成“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号水箱”对象并设定其“体积”属性，加水器类实例化成“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号加水器”对象。其他装置依此类推。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完成场景 。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-360" y="372600"/>
            <a:ext cx="524988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33984"/>
                </a:solidFill>
                <a:latin typeface="Arial"/>
                <a:ea typeface="宋体"/>
              </a:rPr>
              <a:t>理解面向对象</a:t>
            </a:r>
            <a:endParaRPr b="1" lang="en-US" sz="30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107760" y="320760"/>
            <a:ext cx="1467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理解面向对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14000" y="2120400"/>
            <a:ext cx="637236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理解面向对象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133984"/>
                </a:solidFill>
                <a:uFillTx/>
                <a:latin typeface="宋体"/>
                <a:ea typeface="宋体"/>
              </a:rPr>
              <a:t>面向对象的概念 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面向对象程序设计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3984"/>
                </a:solidFill>
                <a:latin typeface="宋体"/>
                <a:ea typeface="宋体"/>
              </a:rPr>
              <a:t>面向对象程序设计中的关键字</a:t>
            </a: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61920" y="1393920"/>
            <a:ext cx="697392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面向对象的基本概念：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-360" y="372600"/>
            <a:ext cx="48848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面向对象的概念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600880" y="320760"/>
            <a:ext cx="2581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面向对象的概念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9"/>
          <p:cNvGrpSpPr/>
          <p:nvPr/>
        </p:nvGrpSpPr>
        <p:grpSpPr>
          <a:xfrm>
            <a:off x="1308240" y="2154240"/>
            <a:ext cx="6178320" cy="3532320"/>
            <a:chOff x="1308240" y="2154240"/>
            <a:chExt cx="6178320" cy="3532320"/>
          </a:xfrm>
        </p:grpSpPr>
        <p:sp>
          <p:nvSpPr>
            <p:cNvPr id="97" name="AutoShape 17"/>
            <p:cNvSpPr/>
            <p:nvPr/>
          </p:nvSpPr>
          <p:spPr>
            <a:xfrm>
              <a:off x="1308240" y="2154240"/>
              <a:ext cx="6178320" cy="3532320"/>
            </a:xfrm>
            <a:prstGeom prst="roundRect">
              <a:avLst>
                <a:gd name="adj" fmla="val 15134"/>
              </a:avLst>
            </a:prstGeom>
            <a:solidFill>
              <a:srgbClr val="b3c8d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1768320" y="2584440"/>
              <a:ext cx="5185080" cy="253368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eefd7"/>
                </a:gs>
                <a:gs pos="100000">
                  <a:srgbClr val="d5d69c"/>
                </a:gs>
              </a:gsLst>
              <a:lin ang="2700000"/>
            </a:gra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对象是人们要研究的任何事物在面向对象程序设计中的抽象。从最简单的整数到复杂的飞机等均可看做对象，它不仅能表示具体的事物，还能表示抽象的规则、计划或事件 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dx</cp:lastModifiedBy>
  <dcterms:modified xsi:type="dcterms:W3CDTF">2011-05-06T04:10:53Z</dcterms:modified>
  <cp:revision>25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