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69CE-3149-4FCB-8C7C-E07A8D4FF3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3B7-A793-473B-A093-E2A58F58C3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157D-8390-447F-B59F-0102687A4D5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18AF-7583-4E77-BBFA-6649AC0A66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2DD-124B-42CD-B72A-DA8EEE470E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03C8-FC16-4955-8846-7A5E0F324E1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33D-095F-4674-9FC3-C1A3E09DED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2A8-15FA-4E11-A7F3-68E3269C3C5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215C-610D-47F1-BB74-798C29BF90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236A-045B-4C55-B31B-E5A312937D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C72C-710A-4308-A267-4C461F6A7C1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123C-76B6-4312-93C7-76B5273F7F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FC5A-10EA-440C-92CE-6913D859C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F226-E507-4253-9DFF-3D2F30291D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C49-2C6D-4A15-A05F-E25BBDF888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25D-A9B7-4979-94CB-E9ED94795AB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CD62-B606-4EB9-A909-6826500A5E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FC10-6831-472D-9E23-4301226CF0C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9980-3316-4020-92B5-ADC47732E2E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12CC-C9D6-456A-A8BA-26508E6019D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AE07-8A79-413D-AFC3-7D661ABF21D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学者通用符号指令代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操作系统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757-F410-467C-BB8D-FB77061E0E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300E-1F3B-4FD1-93A5-F4DD8F8DE51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C25F-977D-4AE4-9C6C-BD8E6ADB78D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A63-D22B-4B2E-BAB7-5B6F3747E22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C93-EAFC-4EB4-A290-3DBBE4B00D4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0409-9C13-4353-98AA-3D49947324E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6A75-F8E5-409A-8958-2F91423AF0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0423-18C0-4473-BA3C-E0A7191DC3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6820-FB71-4D75-AD81-FEC5A50D46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9B71-A0A5-4005-A709-D39CE3F2A99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8FD5-D7AA-4587-8F55-4C9677EE71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DC47-2E0C-4D7D-A23C-648086AEFFB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5FF-1787-4004-B0CD-49FC9735CF9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Title = 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水下俱乐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Width = 6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indowHeight = 8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BackgroundColor = ConsoleColor.Wh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ForegroundColor = ConsoleColor.Blac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Clea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输入一个字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i = Console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 Convert.ToChar(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WriteLine(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您输入的字符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}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其码制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}", c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e.ReadKey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6A0-5B30-4A4B-A7A8-72AED473C29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2FB1-A42B-4D02-B77C-F659372060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假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。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F7B9-FC3A-4DBA-90F2-4D0120824B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=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b=‘ab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能力，逻辑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 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F80-97E8-4916-B928-2F6003ECB39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F05-500B-4175-8DEB-83546F6306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B4AF-F65C-47F8-8193-5ADCED145A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A8C9-9CE6-43BE-B33A-714D5529720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72F-0893-4966-8DC6-AAD5F9DAF2D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2721-2C72-4293-9DB9-2AD658946E2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 c =‘C’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dd=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173-B4F1-4B61-9C02-9B2A443670F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111-69A5-4E0D-8A26-11386D98FC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A8E-CB33-4A76-B198-BE1D934E2AC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5401-DEF7-4E65-AC9C-F2B27A57F6D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8FF-A39C-42E1-8517-83B8680B57A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BD1-CB00-469D-BA85-27708F0BB51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DF04-385B-43AE-8655-4E2E18AC4E0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EBDA-D0D3-41EC-8CED-126D737C26D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8318-6D67-43DC-94DA-4E2277BBE7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E2FF-2600-49F2-8667-E2C31EF762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AAC5-AC9A-4E96-A646-7B01854ABE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4FB-6D4B-4513-83ED-92DE963821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&gt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0/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690-E55D-406B-9A2F-73DCE1423D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5F37-A416-4AD2-AB2E-F29CD847B83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946-7817-46AF-A6E4-9E2CAA8125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B100-DF14-4E2A-B883-7499C521BF1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9167-D21B-4CD9-89ED-4BE0893155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A763-313A-49BA-BEDB-64BAC282FE9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D015-5CCC-413E-8B0B-82171C5672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754-C776-4A49-AE69-37DDEE892B7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117-533C-4FE3-AB9F-715122E967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4347-147B-48DD-BBC1-CEA792D4F0C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项对话框；解决方案管理器；类视图；“属性”窗口；工具箱；智能感知；使用帮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408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6520" y="126828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64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408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6520" y="3914640"/>
            <a:ext cx="264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179280"/>
            <a:ext cx="91440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680" y="391464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680" y="1268280"/>
            <a:ext cx="40158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1640" y="3914640"/>
            <a:ext cx="8229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7" descr="2-3"/>
          <p:cNvPicPr/>
          <p:nvPr/>
        </p:nvPicPr>
        <p:blipFill>
          <a:blip r:embed="rId3"/>
          <a:stretch/>
        </p:blipFill>
        <p:spPr>
          <a:xfrm>
            <a:off x="5391000" y="3808440"/>
            <a:ext cx="3753000" cy="3049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1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2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sdn.microsoft.com/zh-cn/library/system.console.backgroundcolor%28v=VS.80%29.aspx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msdn.microsoft.com/zh-cn/library/system.console.bufferheight%28v=VS.80%29.aspx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msdn.microsoft.com/zh-cn/library/system.console.bufferwidth%28v=VS.80%29.aspx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msdn.microsoft.com/zh-cn/library/system.console.capslock%28v=VS.80%29.aspx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msdn.microsoft.com/zh-cn/library/system.console.cursorleft%28v=VS.80%29.aspx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msdn.microsoft.com/zh-cn/library/system.console.cursorsize%28v=VS.80%29.aspx" TargetMode="External"/><Relationship Id="rId14" Type="http://schemas.openxmlformats.org/officeDocument/2006/relationships/image" Target="../media/image2.png"/><Relationship Id="rId15" Type="http://schemas.openxmlformats.org/officeDocument/2006/relationships/hyperlink" Target="http://msdn.microsoft.com/zh-cn/library/system.console.cursortop%28v=VS.80%29.aspx" TargetMode="External"/><Relationship Id="rId16" Type="http://schemas.openxmlformats.org/officeDocument/2006/relationships/image" Target="../media/image2.png"/><Relationship Id="rId17" Type="http://schemas.openxmlformats.org/officeDocument/2006/relationships/hyperlink" Target="http://msdn.microsoft.com/zh-cn/library/system.console.cursorvisible%28v=VS.80%29.aspx" TargetMode="External"/><Relationship Id="rId18" Type="http://schemas.openxmlformats.org/officeDocument/2006/relationships/image" Target="../media/image2.png"/><Relationship Id="rId19" Type="http://schemas.openxmlformats.org/officeDocument/2006/relationships/hyperlink" Target="http://msdn.microsoft.com/zh-cn/library/system.console.error%28v=VS.80%29.aspx" TargetMode="External"/><Relationship Id="rId20" Type="http://schemas.openxmlformats.org/officeDocument/2006/relationships/image" Target="../media/image2.png"/><Relationship Id="rId21" Type="http://schemas.openxmlformats.org/officeDocument/2006/relationships/hyperlink" Target="http://msdn.microsoft.com/zh-cn/library/system.console.foregroundcolor%28v=VS.80%29.aspx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msdn.microsoft.com/zh-cn/library/system.console.in%28v=VS.80%29.aspx" TargetMode="External"/><Relationship Id="rId24" Type="http://schemas.openxmlformats.org/officeDocument/2006/relationships/image" Target="../media/image2.png"/><Relationship Id="rId25" Type="http://schemas.openxmlformats.org/officeDocument/2006/relationships/hyperlink" Target="http://msdn.microsoft.com/zh-cn/library/system.console.inputencoding%28v=VS.80%29.aspx" TargetMode="External"/><Relationship Id="rId26" Type="http://schemas.openxmlformats.org/officeDocument/2006/relationships/image" Target="../media/image2.png"/><Relationship Id="rId27" Type="http://schemas.openxmlformats.org/officeDocument/2006/relationships/hyperlink" Target="http://msdn.microsoft.com/zh-cn/library/system.console.keyavailable%28v=VS.80%29.aspx" TargetMode="External"/><Relationship Id="rId28" Type="http://schemas.openxmlformats.org/officeDocument/2006/relationships/image" Target="../media/image2.png"/><Relationship Id="rId29" Type="http://schemas.openxmlformats.org/officeDocument/2006/relationships/hyperlink" Target="http://msdn.microsoft.com/zh-cn/library/system.console.largestwindowheight%28v=VS.80%29.aspx" TargetMode="External"/><Relationship Id="rId30" Type="http://schemas.openxmlformats.org/officeDocument/2006/relationships/image" Target="../media/image2.png"/><Relationship Id="rId31" Type="http://schemas.openxmlformats.org/officeDocument/2006/relationships/hyperlink" Target="http://msdn.microsoft.com/zh-cn/library/system.console.largestwindowwidth%28v=VS.80%29.aspx" TargetMode="External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slideLayout" Target="../slideLayouts/slideLayout3.xml"/><Relationship Id="rId4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语言，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C#</a:t>
            </a:r>
            <a:r>
              <a:rPr b="1" lang="zh-CN" sz="3600" spc="-1" strike="noStrike">
                <a:solidFill>
                  <a:srgbClr val="133984"/>
                </a:solidFill>
                <a:latin typeface="Arial"/>
              </a:rPr>
              <a:t>入门</a:t>
            </a:r>
            <a:endParaRPr b="1" lang="en-US" sz="3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437328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                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Hyperpotato </a:t>
            </a: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范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133984"/>
                </a:solidFill>
                <a:latin typeface="微软雅黑"/>
                <a:ea typeface="微软雅黑"/>
              </a:rPr>
              <a:t>fandixia0703@sjtu.edu.cn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93" name="图片 3" descr="LOGO副本.jpg"/>
          <p:cNvPicPr/>
          <p:nvPr/>
        </p:nvPicPr>
        <p:blipFill>
          <a:blip r:embed="rId2"/>
          <a:stretch/>
        </p:blipFill>
        <p:spPr>
          <a:xfrm>
            <a:off x="-115920" y="4761000"/>
            <a:ext cx="26766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树视图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使用粗体字显示的解决方案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选择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多重选择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sln,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下有多个项目或网站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cs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类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B.NET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项目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:.vbproj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任何类型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121840" y="143100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视图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clip_image002"/>
          <p:cNvPicPr/>
          <p:nvPr/>
        </p:nvPicPr>
        <p:blipFill>
          <a:blip r:embed="rId2"/>
          <a:stretch/>
        </p:blipFill>
        <p:spPr>
          <a:xfrm>
            <a:off x="3254400" y="2011320"/>
            <a:ext cx="20858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通过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添加新项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121" name="Picture 7" descr="clip_image002"/>
          <p:cNvPicPr/>
          <p:nvPr/>
        </p:nvPicPr>
        <p:blipFill>
          <a:blip r:embed="rId3"/>
          <a:stretch/>
        </p:blipFill>
        <p:spPr>
          <a:xfrm>
            <a:off x="1500120" y="2084400"/>
            <a:ext cx="58374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04840" y="1292040"/>
            <a:ext cx="67500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在“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视图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”中管理项目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从“类视图”中获得通常可用于“解决方案资源管理器”中符号的所有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3812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类视图可以时方便快捷地查找某个类，某个功能模块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类视图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窗口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300760" y="139284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性”窗口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lip_image002"/>
          <p:cNvPicPr/>
          <p:nvPr/>
        </p:nvPicPr>
        <p:blipFill>
          <a:blip r:embed="rId2"/>
          <a:stretch/>
        </p:blipFill>
        <p:spPr>
          <a:xfrm>
            <a:off x="1704960" y="1973160"/>
            <a:ext cx="2124000" cy="410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lip_image002"/>
          <p:cNvPicPr/>
          <p:nvPr/>
        </p:nvPicPr>
        <p:blipFill>
          <a:blip r:embed="rId3"/>
          <a:stretch/>
        </p:blipFill>
        <p:spPr>
          <a:xfrm>
            <a:off x="4408560" y="1973160"/>
            <a:ext cx="2124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对象名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工具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属性集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说明”窗格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属性”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口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2600" y="140580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属性”窗口从上至下总共分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部分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409920" y="139284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clip_image002"/>
          <p:cNvPicPr/>
          <p:nvPr/>
        </p:nvPicPr>
        <p:blipFill>
          <a:blip r:embed="rId2"/>
          <a:stretch/>
        </p:blipFill>
        <p:spPr>
          <a:xfrm>
            <a:off x="3025800" y="1973160"/>
            <a:ext cx="23526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工具箱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312680" y="258840"/>
            <a:ext cx="6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116000" y="180504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具箱”是一个浮动的树控件，它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资源管理器的工作方式非常相似，但没有网格或连接线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1116000" y="4043520"/>
            <a:ext cx="6719760" cy="14317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可以添加到项目中的项的图标。每次返回编辑器或设计器时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工具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都会自动滚动到最近选择过的选项卡和项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智能感知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226640" y="374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智能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116000" y="1805040"/>
            <a:ext cx="6477120" cy="3851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代码编写过程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供了智能感知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telliSens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功能，它是由集成开发环境提供的一种即时自动提示功能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机器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汇编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高级语言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使用帮助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170840" y="374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使用帮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192320" y="2050920"/>
            <a:ext cx="6067440" cy="1301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在安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时随之安装的本地帮助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（这个帮助就是我们在安装时所选择的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192320" y="144792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帮助信息有两个基本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1192320" y="3641760"/>
            <a:ext cx="6067440" cy="20145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联机帮助。联机帮助是基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Internet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的，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 Online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MSDN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新闻组及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.NET Code Wise Community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开发人员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站点集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宋体"/>
              </a:rPr>
              <a:t>www.msd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tIns="540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3984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253880"/>
            <a:ext cx="73911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C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语言认识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基于过程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基本语法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变量，数据表达式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分支与循环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单片机编程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649"/>
              </a:spcBef>
              <a:buSzPct val="13288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：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面向对象基本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面向对象高级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</a:rPr>
              <a:t>Winform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</a:rPr>
              <a:t>编程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——</a:t>
            </a:r>
            <a:r>
              <a:rPr b="0" lang="en-US" sz="2600" spc="-1" strike="noStrike">
                <a:solidFill>
                  <a:srgbClr val="133984"/>
                </a:solidFill>
                <a:latin typeface="Arial"/>
              </a:rPr>
              <a:t>GDI+——SQL——ADO——</a:t>
            </a:r>
            <a:r>
              <a:rPr b="0" lang="zh-CN" sz="2600" spc="-1" strike="noStrike">
                <a:solidFill>
                  <a:srgbClr val="133984"/>
                </a:solidFill>
                <a:latin typeface="Arial"/>
              </a:rPr>
              <a:t>。。。。。。</a:t>
            </a: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61196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目标</a:t>
            </a:r>
            <a:br>
              <a:rPr sz="3000"/>
            </a:b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学习目标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1131840" y="25844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了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特点和优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131840" y="3984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熟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集成开发环境的使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306360"/>
            <a:ext cx="3470400" cy="49536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特点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131840" y="22114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简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131840" y="30891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面向对象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/>
          <p:cNvSpPr/>
          <p:nvPr/>
        </p:nvSpPr>
        <p:spPr>
          <a:xfrm>
            <a:off x="1131840" y="396720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紧密结合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131840" y="48448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基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.NET Framework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：绘制一个计算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8910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14360" y="1747440"/>
            <a:ext cx="5492880" cy="28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编程步骤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应用程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代码试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程序分析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000080" y="1858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来进行一些简单的开发 ，比如下面的界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clip_image002"/>
          <p:cNvPicPr/>
          <p:nvPr/>
        </p:nvPicPr>
        <p:blipFill>
          <a:blip r:embed="rId2"/>
          <a:stretch/>
        </p:blipFill>
        <p:spPr>
          <a:xfrm>
            <a:off x="1790640" y="2857680"/>
            <a:ext cx="5129280" cy="24969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539640" y="230040"/>
            <a:ext cx="4954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118200" y="450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可视化开发的初步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440" y="247320"/>
            <a:ext cx="878832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编程步骤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创建“欢迎”应用程序的</a:t>
            </a:r>
            <a:r>
              <a:rPr b="0" lang="en-US" sz="2800" spc="-1" strike="noStrike">
                <a:solidFill>
                  <a:srgbClr val="133984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133984"/>
                </a:solidFill>
                <a:latin typeface="宋体"/>
                <a:ea typeface="宋体"/>
              </a:rPr>
              <a:t>个基本步骤：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1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编程步骤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8"/>
          <p:cNvSpPr/>
          <p:nvPr/>
        </p:nvSpPr>
        <p:spPr>
          <a:xfrm>
            <a:off x="1066680" y="23954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一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9"/>
          <p:cNvSpPr/>
          <p:nvPr/>
        </p:nvSpPr>
        <p:spPr>
          <a:xfrm>
            <a:off x="1066680" y="353376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二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066680" y="4802040"/>
            <a:ext cx="647712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 Narrow"/>
                <a:ea typeface="宋体"/>
              </a:rPr>
              <a:t>步骤三：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编译、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200" y="247320"/>
            <a:ext cx="4772160" cy="560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用户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476600" y="39528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创建用户界面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238400" y="2035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新项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238400" y="3583080"/>
            <a:ext cx="521496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Clr>
                <a:srgbClr val="000000"/>
              </a:buClr>
              <a:buSzPct val="8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创建界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70376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新项目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15880" y="1541520"/>
          <a:ext cx="7930800" cy="4085640"/>
        </p:xfrm>
        <a:graphic>
          <a:graphicData uri="http://schemas.openxmlformats.org/drawingml/2006/table">
            <a:tbl>
              <a:tblPr/>
              <a:tblGrid>
                <a:gridCol w="921960"/>
                <a:gridCol w="700884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启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 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Studio</a:t>
                      </a:r>
                      <a:r>
                        <a:rPr b="0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件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菜单下，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新建”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→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命令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项目类型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选项组中，选择“ 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Visual  C# 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名称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文本框中，键入“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Welcome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确定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AutoShape 25"/>
          <p:cNvSpPr/>
          <p:nvPr/>
        </p:nvSpPr>
        <p:spPr>
          <a:xfrm>
            <a:off x="1000080" y="22860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000080" y="396252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1000080" y="480060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1000080" y="3124080"/>
            <a:ext cx="392040" cy="457200"/>
          </a:xfrm>
          <a:custGeom>
            <a:avLst/>
            <a:gdLst>
              <a:gd name="textAreaLeft" fmla="*/ 0 w 392040"/>
              <a:gd name="textAreaRight" fmla="*/ 392400 w 392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87">
                <a:moveTo>
                  <a:pt x="0" y="0"/>
                </a:moveTo>
                <a:arcTo wR="0" hR="0" stAng="16200000" swAng="-5400000"/>
                <a:lnTo>
                  <a:pt x="0" y="25187"/>
                </a:lnTo>
                <a:arcTo wR="0" hR="0" stAng="10800000" swAng="-5400000"/>
                <a:lnTo>
                  <a:pt x="21600" y="251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Basic(Beginners' All-purpose Symbolic Instruction Code 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FORTRAN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（公式转化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科学计算运用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数学科学计算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C/C++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应用程序、系统程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601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应用：网络程序、跨平台应用（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</a:rPr>
              <a:t>java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虚拟机）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74720" y="1541520"/>
          <a:ext cx="7671960" cy="4085640"/>
        </p:xfrm>
        <a:graphic>
          <a:graphicData uri="http://schemas.openxmlformats.org/drawingml/2006/table">
            <a:tbl>
              <a:tblPr/>
              <a:tblGrid>
                <a:gridCol w="1099080"/>
                <a:gridCol w="6572880"/>
              </a:tblGrid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步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操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b3c8df"/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改变窗体文件名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击标准工具栏的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按钮，显示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对话框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5f5f5f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abel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gradFill rotWithShape="0">
                      <a:gsLst>
                        <a:gs pos="0">
                          <a:srgbClr val="eeefd7"/>
                        </a:gs>
                        <a:gs pos="100000">
                          <a:srgbClr val="d5d69c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从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工具箱”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中将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控件拖放到窗体上，创建一个控件</a:t>
                      </a:r>
                      <a:r>
                        <a:rPr b="1" lang="en-US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PictureBox1</a:t>
                      </a:r>
                      <a:r>
                        <a:rPr b="1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。</a:t>
                      </a:r>
                      <a:r>
                        <a:rPr b="0" lang="zh-CN" sz="24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808080"/>
                      </a:solidFill>
                    </a:lnL>
                    <a:lnR w="9360">
                      <a:solidFill>
                        <a:srgbClr val="808080"/>
                      </a:solidFill>
                    </a:lnR>
                    <a:lnT w="9360">
                      <a:solidFill>
                        <a:srgbClr val="808080"/>
                      </a:solidFill>
                    </a:lnT>
                    <a:lnB w="93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AutoShape 25"/>
          <p:cNvSpPr/>
          <p:nvPr/>
        </p:nvSpPr>
        <p:spPr>
          <a:xfrm>
            <a:off x="1295280" y="22860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6"/>
          <p:cNvSpPr/>
          <p:nvPr/>
        </p:nvSpPr>
        <p:spPr>
          <a:xfrm>
            <a:off x="1295280" y="396252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7"/>
          <p:cNvSpPr/>
          <p:nvPr/>
        </p:nvSpPr>
        <p:spPr>
          <a:xfrm>
            <a:off x="1295280" y="480060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8"/>
          <p:cNvSpPr/>
          <p:nvPr/>
        </p:nvSpPr>
        <p:spPr>
          <a:xfrm>
            <a:off x="1295280" y="3124080"/>
            <a:ext cx="392400" cy="457200"/>
          </a:xfrm>
          <a:custGeom>
            <a:avLst/>
            <a:gdLst>
              <a:gd name="textAreaLeft" fmla="*/ 0 w 392400"/>
              <a:gd name="textAreaRight" fmla="*/ 392760 w 392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5164">
                <a:moveTo>
                  <a:pt x="0" y="0"/>
                </a:moveTo>
                <a:arcTo wR="0" hR="0" stAng="16200000" swAng="-5400000"/>
                <a:lnTo>
                  <a:pt x="0" y="25164"/>
                </a:lnTo>
                <a:arcTo wR="0" hR="0" stAng="10800000" swAng="-5400000"/>
                <a:lnTo>
                  <a:pt x="21600" y="2516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0f0f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 Narrow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创建界面 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02720" y="150732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界面绘制完毕，结果如下图所示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2" descr="clip_image002"/>
          <p:cNvPicPr/>
          <p:nvPr/>
        </p:nvPicPr>
        <p:blipFill>
          <a:blip r:embed="rId2"/>
          <a:stretch/>
        </p:blipFill>
        <p:spPr>
          <a:xfrm>
            <a:off x="1538280" y="2314440"/>
            <a:ext cx="5429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314000" y="2161800"/>
            <a:ext cx="637236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主窗体属性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1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设置布局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6167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设置属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127280" y="1652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设置属性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行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Windows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应用程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950080" y="183960"/>
            <a:ext cx="20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Windows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058760" y="143316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行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Welcome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应用程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clip_image002"/>
          <p:cNvPicPr/>
          <p:nvPr/>
        </p:nvPicPr>
        <p:blipFill>
          <a:blip r:embed="rId2"/>
          <a:stretch/>
        </p:blipFill>
        <p:spPr>
          <a:xfrm>
            <a:off x="1209600" y="2476440"/>
            <a:ext cx="53593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窗体和控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1068480" y="1778040"/>
            <a:ext cx="6653160" cy="33764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个窗体和控件都有各自的属性，它们一起构成了应用程序的可视化部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图形用户界面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phic User Interfac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U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窗体和控件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46576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代码视图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298280" y="29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代码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119600" y="143280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代码编辑模式：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878040" y="2077920"/>
            <a:ext cx="691344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00120" y="1541520"/>
            <a:ext cx="7129440" cy="38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中的窗体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Label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PictureBox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控件都是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提供的类，被组织在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ystem.Windows.Forms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命名空间中 。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属性窗口里的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Text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Size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和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ackColor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等都是对象的属性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程序分析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754680" y="432720"/>
            <a:ext cx="13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.3.7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程序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90040" y="1623960"/>
            <a:ext cx="7473960" cy="47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853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476600" y="471600"/>
            <a:ext cx="358956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4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990720" y="1508040"/>
            <a:ext cx="6845040" cy="43642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章主要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集成开发环境的构成，包括解决方案资源管理器、类视图、属性窗口做了简单的介绍。其中解决方案资源管理器的使用、类视图和属性窗口的使用都是后面学习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0" y="179280"/>
            <a:ext cx="342432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小结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14000" y="1747440"/>
            <a:ext cx="6372360" cy="37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Visual Studio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集成开发环境简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可视化开发的初步认识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小结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实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习题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章 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133984"/>
                </a:solidFill>
                <a:latin typeface="Arial"/>
                <a:ea typeface="宋体"/>
              </a:rPr>
              <a:t>Visual Studio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认识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(IDE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：集成开发环境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不用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能写程序吗？嘿嘿嘿嘿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197840" y="3769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5 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Practice_Splash"/>
          <p:cNvPicPr/>
          <p:nvPr/>
        </p:nvPicPr>
        <p:blipFill>
          <a:blip r:embed="rId2"/>
          <a:stretch/>
        </p:blipFill>
        <p:spPr>
          <a:xfrm>
            <a:off x="539640" y="1168560"/>
            <a:ext cx="1675080" cy="5155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7"/>
          <p:cNvSpPr/>
          <p:nvPr/>
        </p:nvSpPr>
        <p:spPr>
          <a:xfrm>
            <a:off x="2833560" y="2286000"/>
            <a:ext cx="5040360" cy="205740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3073320" y="2473200"/>
            <a:ext cx="4552920" cy="1683000"/>
          </a:xfrm>
          <a:prstGeom prst="roundRect">
            <a:avLst>
              <a:gd name="adj" fmla="val 7333"/>
            </a:avLst>
          </a:prstGeom>
          <a:gradFill rotWithShape="0">
            <a:gsLst>
              <a:gs pos="0">
                <a:srgbClr val="f0f1e1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43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绘制一个计算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作业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熟悉一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环境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32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33984"/>
                </a:solidFill>
                <a:latin typeface="Arial"/>
              </a:rPr>
              <a:t>变量、数据类型和表达式</a:t>
            </a:r>
            <a:br>
              <a:rPr sz="3400"/>
            </a:br>
            <a:endParaRPr b="1" lang="en-US" sz="3400" spc="-1" strike="noStrike">
              <a:solidFill>
                <a:srgbClr val="133984"/>
              </a:solidFill>
              <a:latin typeface="Arial"/>
            </a:endParaRPr>
          </a:p>
        </p:txBody>
      </p:sp>
      <p:pic>
        <p:nvPicPr>
          <p:cNvPr id="227" name="Picture 3" descr="2640_Intro_Splash copy"/>
          <p:cNvPicPr/>
          <p:nvPr/>
        </p:nvPicPr>
        <p:blipFill>
          <a:blip r:embed="rId2"/>
          <a:stretch/>
        </p:blipFill>
        <p:spPr>
          <a:xfrm>
            <a:off x="2189160" y="3697200"/>
            <a:ext cx="50418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onsol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类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直接写入字符串，不进行换行，可继续接着前面的字符写入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451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Write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向控制台写入字符串后换行。</a:t>
            </a:r>
            <a:endParaRPr b="0" lang="en-US" sz="1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，不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Line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表示从控制台读取字符串后进行换行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ReadKey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获取用户按下的下一个字符或功能键。按下的键显示在控制台窗口中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Beep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通过控制台扬声器播放提示音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onsole.Clear </a:t>
            </a:r>
            <a:r>
              <a:rPr b="0" lang="zh-CN" sz="1800" spc="-1" strike="noStrike">
                <a:solidFill>
                  <a:srgbClr val="133984"/>
                </a:solidFill>
                <a:latin typeface="Arial"/>
              </a:rPr>
              <a:t>方法 清除控制台缓冲区和相应的控制台窗口的显示信息。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1640" y="38052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ack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背景色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uffer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高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uffer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缓冲区的宽度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apsLock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aps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ursorLef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列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ursorSiz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字符单元格中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ursorTop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光标在缓冲区中的行位置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CursorVisi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用以指示光标是否可见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rr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错误输出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ForegroundColor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的前景色。 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入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nputEncoding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读取输入的编码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KeyAvailable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按键操作在输入流中是否可用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LargestWindowHeight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行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12348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LargestWindowWidth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根据当前字体和屏幕分辨率获取控制台窗口可能具有的最大列数。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ber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一个值，该值指示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Num Lock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键盘切换键是打开的还是关闭的。  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标准输出流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OutputEncoding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用于写入输出的编码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itle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要显示在控制台标题栏中的标题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TreatControlCAsInpu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一个值，该值指示是将修改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ontrol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和控制台键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C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的组合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(Ctrl+C)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视为普通输入，还是视为由操作系统处理的中断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Heigh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高度。 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Left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左边相对于屏幕缓冲区的位置。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3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Top </a:t>
            </a: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获取或设置控制台窗口区域的最顶部相对于屏幕缓冲区的位置。   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349"/>
              </a:spcBef>
              <a:buSzPct val="246674"/>
              <a:buBlip>
                <a:blip r:embed="rId4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3398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133984"/>
                </a:solidFill>
                <a:latin typeface="Arial"/>
              </a:rPr>
              <a:t>WindowWidth</a:t>
            </a:r>
            <a:endParaRPr b="0" lang="en-US" sz="1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12560" y="2080800"/>
            <a:ext cx="63738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本章学习目标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声明并使用变量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了解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的主要数据类型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理解值类型</a:t>
            </a:r>
            <a:r>
              <a:rPr b="0" lang="zh-CN" sz="2400" spc="-1" strike="noStrike">
                <a:solidFill>
                  <a:srgbClr val="133984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</a:rPr>
              <a:t>使用表达式进行数学运算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掌握不同数据类型的转换方法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266760"/>
            <a:ext cx="8705880" cy="47448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</a:rPr>
              <a:t>目标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32878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endParaRPr b="1" lang="en-US" sz="26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1285920" y="1798560"/>
            <a:ext cx="620532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1346040" y="4735440"/>
            <a:ext cx="6167520" cy="998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5494320" y="243000"/>
            <a:ext cx="261144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6554880" y="338040"/>
            <a:ext cx="155088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1346040" y="3198960"/>
            <a:ext cx="620568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随堂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7880" y="2370240"/>
            <a:ext cx="7170840" cy="31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为变量命名时要遵循</a:t>
            </a: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语言的命名规范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：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名只能由字母、数字和下划线组成，而不能包含空格、标点符号、运算符等其他符号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变量名不能与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C#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中的关键字名称相同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272520" y="294840"/>
            <a:ext cx="4978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标识符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992920" y="76680"/>
            <a:ext cx="215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语法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数据类型       变量名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=   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初始值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;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ntegrated Development Environment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IDE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Basi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Delphi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urbo C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Borland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++ Builder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C++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-431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Visual Studio:5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6.0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.NET(2002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3(.NET1.1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5(.NET2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08(.NET3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2010(.NET4.0)</a:t>
            </a:r>
            <a:r>
              <a:rPr b="0" lang="zh-CN" sz="2800" spc="-1" strike="noStrike">
                <a:solidFill>
                  <a:srgbClr val="133984"/>
                </a:solidFill>
                <a:latin typeface="Arial"/>
              </a:rPr>
              <a:t>、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marL="4312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32259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命名变量（续）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命名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于变量命名的一般建议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1054080" y="3390840"/>
            <a:ext cx="6461280" cy="9619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应具有描述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1038240" y="4619520"/>
            <a:ext cx="6396120" cy="11606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包含多个单词的变量名中，从第二个单词开始，每个单词都采取首字母大写的形式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1038240" y="2276640"/>
            <a:ext cx="6461280" cy="920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变量名最好以小写字母开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2654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声明变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071960" y="35712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声明变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923760" y="1582560"/>
            <a:ext cx="6685200" cy="41324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1346040" y="1892160"/>
            <a:ext cx="5607360" cy="138276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使用原则：先声明，后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1384200" y="3851280"/>
            <a:ext cx="5748480" cy="167652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声明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据类型  变量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11160"/>
            <a:ext cx="218916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常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071960" y="395280"/>
            <a:ext cx="415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常量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923760" y="1866960"/>
            <a:ext cx="6685200" cy="384804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386000" y="2508120"/>
            <a:ext cx="568296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定义：常量就是其值固定不变的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422360" y="4159080"/>
            <a:ext cx="5667480" cy="95904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声明方法：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onst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  常量表达式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变量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常量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C# </a:t>
            </a:r>
            <a:r>
              <a:rPr b="1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数据类型</a:t>
            </a:r>
            <a:r>
              <a:rPr b="0" lang="zh-CN" sz="24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类型转换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运算符和表达式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小结</a:t>
            </a:r>
            <a:r>
              <a:rPr b="1" lang="en-US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实验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习题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294840"/>
            <a:ext cx="808344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第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章  变量、数据类型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和表达式</a:t>
            </a:r>
            <a:endParaRPr b="1" lang="en-US" sz="30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  <a:ea typeface="宋体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</a:t>
            </a:r>
            <a:r>
              <a:rPr b="0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(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没有小数</a:t>
            </a: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)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字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~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一个字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有小数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范围大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范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精确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十进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174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984"/>
                </a:solidFill>
                <a:latin typeface="Arial"/>
                <a:ea typeface="宋体"/>
              </a:rPr>
              <a:t>bool:true,false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3984"/>
                </a:solidFill>
                <a:latin typeface="Arial"/>
                <a:ea typeface="宋体"/>
              </a:rPr>
              <a:t>C# </a:t>
            </a: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数据类型</a:t>
            </a:r>
            <a:r>
              <a:rPr b="1" lang="zh-CN" sz="2800" spc="-1" strike="noStrike" u="sng">
                <a:solidFill>
                  <a:srgbClr val="133984"/>
                </a:solidFill>
                <a:uFillTx/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C#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846000" y="1346040"/>
            <a:ext cx="222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据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"/>
          <p:cNvPicPr/>
          <p:nvPr/>
        </p:nvPicPr>
        <p:blipFill>
          <a:blip r:embed="rId2"/>
          <a:stretch/>
        </p:blipFill>
        <p:spPr>
          <a:xfrm>
            <a:off x="1268280" y="1930320"/>
            <a:ext cx="622008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725976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引用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1268280" y="246852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类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las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268280" y="342900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接口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interfac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5916600" y="38736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引用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9"/>
          <p:cNvSpPr/>
          <p:nvPr/>
        </p:nvSpPr>
        <p:spPr>
          <a:xfrm>
            <a:off x="1268280" y="1355760"/>
            <a:ext cx="6107400" cy="95868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在内存中不直接存储引用类型的数据，而是存储该数据的地址 。引用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1268280" y="438948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数组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rra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268280" y="5349960"/>
            <a:ext cx="6107400" cy="8064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ade2a1"/>
              </a:gs>
              <a:gs pos="100000">
                <a:srgbClr val="e8f6e4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串（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string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2876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值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607000" y="430920"/>
            <a:ext cx="25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8"/>
          <p:cNvSpPr/>
          <p:nvPr/>
        </p:nvSpPr>
        <p:spPr>
          <a:xfrm>
            <a:off x="1116000" y="15922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值类型主要由简单类型、枚举类型和结构类型这三类组成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20600" y="2490840"/>
          <a:ext cx="6739200" cy="3319560"/>
        </p:xfrm>
        <a:graphic>
          <a:graphicData uri="http://schemas.openxmlformats.org/drawingml/2006/table">
            <a:tbl>
              <a:tblPr/>
              <a:tblGrid>
                <a:gridCol w="1192320"/>
                <a:gridCol w="2247840"/>
                <a:gridCol w="3299040"/>
              </a:tblGrid>
              <a:tr h="36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种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简单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imple types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, short, int,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, ushort, uint, 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nicod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EEE 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浮点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,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数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值：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枚举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enum E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结构类型（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type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truct S {...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314360" y="1872720"/>
            <a:ext cx="561672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整数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浮点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布尔类型</a:t>
            </a:r>
            <a:r>
              <a:rPr b="1" lang="zh-CN" sz="24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r>
              <a:rPr b="0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283212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简单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14000" y="1375920"/>
            <a:ext cx="63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选项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对话框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解决方案资源管理器</a:t>
            </a:r>
            <a:r>
              <a:rPr b="0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类视图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属性</a:t>
            </a: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”</a:t>
            </a: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窗口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工具箱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智能感知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宋体"/>
                <a:ea typeface="宋体"/>
              </a:rPr>
              <a:t>使用帮助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2" marL="1235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0000" y="333000"/>
            <a:ext cx="374508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Arial"/>
                <a:ea typeface="宋体"/>
              </a:rPr>
              <a:t>开发环境简介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整数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88" name="Rectangle 60"/>
          <p:cNvSpPr/>
          <p:nvPr/>
        </p:nvSpPr>
        <p:spPr>
          <a:xfrm>
            <a:off x="1116000" y="11815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整数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85960" y="1816200"/>
          <a:ext cx="7065720" cy="4155840"/>
        </p:xfrm>
        <a:graphic>
          <a:graphicData uri="http://schemas.openxmlformats.org/drawingml/2006/table">
            <a:tbl>
              <a:tblPr/>
              <a:tblGrid>
                <a:gridCol w="1163520"/>
                <a:gridCol w="923760"/>
                <a:gridCol w="1044720"/>
                <a:gridCol w="393372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有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~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 768~32 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 147 483 648~2 147 483 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–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9 223 372 036 854 775 808~9 223 372 036 854 775 8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1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无符号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4 294 967 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u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18 446 744 073 709 551 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6972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浮点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1" name="Rectangle 60"/>
          <p:cNvSpPr/>
          <p:nvPr/>
        </p:nvSpPr>
        <p:spPr>
          <a:xfrm>
            <a:off x="1000080" y="143388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浮点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14560" y="2430360"/>
          <a:ext cx="6414840" cy="2649600"/>
        </p:xfrm>
        <a:graphic>
          <a:graphicData uri="http://schemas.openxmlformats.org/drawingml/2006/table">
            <a:tbl>
              <a:tblPr/>
              <a:tblGrid>
                <a:gridCol w="1520640"/>
                <a:gridCol w="1096920"/>
                <a:gridCol w="1309680"/>
                <a:gridCol w="248760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单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5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45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到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3.4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7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双精度浮点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5.0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324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~1.7 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308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79280"/>
            <a:ext cx="315108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十进制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38240" y="174204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十进制类型在计算机中的取值范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001880" y="2779560"/>
          <a:ext cx="6949800" cy="1839960"/>
        </p:xfrm>
        <a:graphic>
          <a:graphicData uri="http://schemas.openxmlformats.org/drawingml/2006/table">
            <a:tbl>
              <a:tblPr/>
              <a:tblGrid>
                <a:gridCol w="1900080"/>
                <a:gridCol w="1362240"/>
                <a:gridCol w="1515960"/>
                <a:gridCol w="2171520"/>
              </a:tblGrid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十进制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.0 × 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−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~7.9  × 10</a:t>
                      </a:r>
                      <a:r>
                        <a:rPr b="1" lang="en-US" sz="1800" spc="-1" strike="noStrike" baseline="30000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28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29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精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34704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布尔类型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297" name="Rectangle 60"/>
          <p:cNvSpPr/>
          <p:nvPr/>
        </p:nvSpPr>
        <p:spPr>
          <a:xfrm>
            <a:off x="1116000" y="1563480"/>
            <a:ext cx="680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布尔类型表示现实中的“真”或“假”这两个概念，主要用来进行逻辑判断。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C#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中，分别采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这两个值来表示“真”和“假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3880" y="2941560"/>
          <a:ext cx="6037200" cy="2037960"/>
        </p:xfrm>
        <a:graphic>
          <a:graphicData uri="http://schemas.openxmlformats.org/drawingml/2006/table">
            <a:tbl>
              <a:tblPr/>
              <a:tblGrid>
                <a:gridCol w="1424880"/>
                <a:gridCol w="965520"/>
                <a:gridCol w="1424880"/>
                <a:gridCol w="2221920"/>
              </a:tblGrid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Arial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布尔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或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ure,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字符类型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949320" y="1851480"/>
            <a:ext cx="70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字符类型采用国际上公认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Unicod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标准字符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6080" y="2905200"/>
          <a:ext cx="6554520" cy="2199960"/>
        </p:xfrm>
        <a:graphic>
          <a:graphicData uri="http://schemas.openxmlformats.org/drawingml/2006/table">
            <a:tbl>
              <a:tblPr/>
              <a:tblGrid>
                <a:gridCol w="1683000"/>
                <a:gridCol w="1296000"/>
                <a:gridCol w="1140840"/>
                <a:gridCol w="2434680"/>
              </a:tblGrid>
              <a:tr h="73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位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数据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值范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字符类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在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0~65 535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范围内以双字节编码的任意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499760" y="1393560"/>
            <a:ext cx="58374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运算符与赋值表达式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</a:t>
            </a:r>
            <a:r>
              <a:rPr b="0" lang="zh-CN" sz="20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-360" y="33300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marL="571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和表达式 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5338800" y="3121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和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44520"/>
            <a:ext cx="8083440" cy="4572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类型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: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一个符号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,</a:t>
            </a:r>
            <a:r>
              <a:rPr b="1" lang="en-US" sz="2800" spc="-1" strike="noStrike">
                <a:solidFill>
                  <a:srgbClr val="133984"/>
                </a:solidFill>
                <a:latin typeface="Arial"/>
                <a:ea typeface="宋体"/>
              </a:rPr>
              <a:t>代表一种运算操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923760" y="1582560"/>
            <a:ext cx="6685200" cy="4457880"/>
          </a:xfrm>
          <a:prstGeom prst="roundRect">
            <a:avLst>
              <a:gd name="adj" fmla="val 4167"/>
            </a:avLst>
          </a:prstGeom>
          <a:solidFill>
            <a:srgbClr val="b3c8d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分为三类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131840" y="230508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一元运算符：      只使用一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1131840" y="353376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二元运算符：      使用两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131840" y="4802040"/>
            <a:ext cx="6205680" cy="739800"/>
          </a:xfrm>
          <a:prstGeom prst="roundRect">
            <a:avLst>
              <a:gd name="adj" fmla="val 4167"/>
            </a:avLst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9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三元运算符：       使用三个操作数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135000"/>
            <a:ext cx="34178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运算符的优先级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5205240" y="11160"/>
            <a:ext cx="2976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的优先级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726920" y="1433880"/>
            <a:ext cx="2640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从高到低的优先级顺序：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0120" y="1957320"/>
          <a:ext cx="7589520" cy="4128840"/>
        </p:xfrm>
        <a:graphic>
          <a:graphicData uri="http://schemas.openxmlformats.org/drawingml/2006/table">
            <a:tbl>
              <a:tblPr/>
              <a:tblGrid>
                <a:gridCol w="2306880"/>
                <a:gridCol w="5282640"/>
              </a:tblGrid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  算  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初级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.y, f(x), x+a[x], +, x--, new, typeof, checked, unchec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一元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, ~, ++, --, (T)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乘法、除法、取模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 /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增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 ,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移位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&lt; , &gt;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关系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 , &gt; , &lt;= , &gt;= , is,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等式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 , !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异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逻辑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“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”</a:t>
                      </a: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条件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?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33984"/>
                          </a:solidFill>
                          <a:latin typeface="宋体"/>
                          <a:ea typeface="宋体"/>
                        </a:rPr>
                        <a:t>赋值运算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, *= , /= , %= , += , -= , &lt;&lt;=, &gt;&gt;= , &amp;= , ^= , |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280" y="95400"/>
            <a:ext cx="491508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简单的赋值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264200" y="13824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简单的赋值运算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214280" y="2942280"/>
            <a:ext cx="5815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赋值就是给一个变量赋一个新值。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=”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用于将等号右边的操作数（第二个操作数）的值赋给左边的操作数（第一个操作数）。表达式的结果是右边操作数的值，所以赋值操作可以串联在一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算术运算符与算术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4341960" y="1522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算术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4091040" y="143316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算术运算符用于创建执行数学操作的表达式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01880" y="2328840"/>
          <a:ext cx="7146360" cy="3568320"/>
        </p:xfrm>
        <a:graphic>
          <a:graphicData uri="http://schemas.openxmlformats.org/drawingml/2006/table">
            <a:tbl>
              <a:tblPr/>
              <a:tblGrid>
                <a:gridCol w="1787040"/>
                <a:gridCol w="1787040"/>
                <a:gridCol w="1785240"/>
                <a:gridCol w="1787040"/>
              </a:tblGrid>
              <a:tr h="59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增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自减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“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选项”对话框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635480" y="1752480"/>
            <a:ext cx="2981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选项”对话框的布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如何应用选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显示所有设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关系运算符与关系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关系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460520" y="161784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关系运算符用于创建一个表达式，该表达式用来比较两个对象并返回布尔值。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95320" y="2660760"/>
          <a:ext cx="7211520" cy="3025440"/>
        </p:xfrm>
        <a:graphic>
          <a:graphicData uri="http://schemas.openxmlformats.org/drawingml/2006/table">
            <a:tbl>
              <a:tblPr/>
              <a:tblGrid>
                <a:gridCol w="1766160"/>
                <a:gridCol w="1829880"/>
                <a:gridCol w="1877400"/>
                <a:gridCol w="1738080"/>
              </a:tblGrid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 算 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小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大于或等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逻辑运算符与逻辑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逻辑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460520" y="161712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逻辑运算符和布尔型操作数一起组成了逻辑表达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42960" y="2394000"/>
          <a:ext cx="7546680" cy="3747600"/>
        </p:xfrm>
        <a:graphic>
          <a:graphicData uri="http://schemas.openxmlformats.org/drawingml/2006/table">
            <a:tbl>
              <a:tblPr/>
              <a:tblGrid>
                <a:gridCol w="1811160"/>
                <a:gridCol w="5735520"/>
              </a:tblGrid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NOT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就不必再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AND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就算左边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还计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|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短路）如果左边成立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不再执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非短路）无论左边是否为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,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右边始终会执行判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^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XOR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（异或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tru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测试 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false </a:t>
                      </a: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值（重载时使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380232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扩充后的赋值</a:t>
            </a:r>
            <a:br>
              <a:rPr sz="2400"/>
            </a:br>
            <a:r>
              <a:rPr b="1" lang="zh-CN" sz="2400" spc="-1" strike="noStrike">
                <a:solidFill>
                  <a:srgbClr val="133984"/>
                </a:solidFill>
                <a:latin typeface="Arial"/>
                <a:ea typeface="宋体"/>
              </a:rPr>
              <a:t>运算符与赋值表达式</a:t>
            </a:r>
            <a:endParaRPr b="1" lang="en-US" sz="24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运算符与赋值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460520" y="1615680"/>
            <a:ext cx="60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扩充后的赋值运算符与赋值表达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23760" y="2276640"/>
          <a:ext cx="6810480" cy="3687480"/>
        </p:xfrm>
        <a:graphic>
          <a:graphicData uri="http://schemas.openxmlformats.org/drawingml/2006/table">
            <a:tbl>
              <a:tblPr/>
              <a:tblGrid>
                <a:gridCol w="2811600"/>
                <a:gridCol w="39988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运 算 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描    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+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加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-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减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*</a:t>
                      </a: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乘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/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除法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%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33984"/>
                          </a:solidFill>
                          <a:latin typeface="Arial"/>
                          <a:ea typeface="宋体"/>
                        </a:rPr>
                        <a:t>取模赋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640" y="95400"/>
            <a:ext cx="4454640" cy="68400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条件运算符与条件表达式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4341960" y="13320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条件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190520" y="2525760"/>
            <a:ext cx="6453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条件运算符是唯一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个操作数的运算符，所以有时又称为三元运算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对条件表达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?x: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先计算条件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然后进行判断。如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；否则，计算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，运算结果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5843520" cy="3589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“</a:t>
            </a:r>
            <a:r>
              <a:rPr b="1" lang="zh-CN" sz="3000" spc="-1" strike="noStrike">
                <a:solidFill>
                  <a:srgbClr val="133984"/>
                </a:solidFill>
                <a:latin typeface="宋体"/>
                <a:ea typeface="宋体"/>
              </a:rPr>
              <a:t>选项”对话框的布局</a:t>
            </a: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43344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495360" indent="-495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.2.1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选项对话框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lip_image002"/>
          <p:cNvPicPr/>
          <p:nvPr/>
        </p:nvPicPr>
        <p:blipFill>
          <a:blip r:embed="rId2"/>
          <a:stretch/>
        </p:blipFill>
        <p:spPr>
          <a:xfrm>
            <a:off x="1282680" y="1790640"/>
            <a:ext cx="5918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3984"/>
                </a:solidFill>
                <a:latin typeface="Arial"/>
                <a:ea typeface="宋体"/>
              </a:rPr>
              <a:t>解决方案资源管理器 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1524960" y="145296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决方案资源管理器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4" descr="clip_image002"/>
          <p:cNvPicPr/>
          <p:nvPr/>
        </p:nvPicPr>
        <p:blipFill>
          <a:blip r:embed="rId2"/>
          <a:stretch/>
        </p:blipFill>
        <p:spPr>
          <a:xfrm>
            <a:off x="3033720" y="1911240"/>
            <a:ext cx="25509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dx</cp:lastModifiedBy>
  <dcterms:modified xsi:type="dcterms:W3CDTF">2011-10-15T08:58:06Z</dcterms:modified>
  <cp:revision>24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